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C339A17-3C56-49C9-8C29-3B77FBFA4DBB}"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918EDF-2712-45E2-8D79-62705DDBF5A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217440" y="22320"/>
            <a:ext cx="6451560" cy="3630600"/>
          </a:xfrm>
          <a:prstGeom prst="rect">
            <a:avLst/>
          </a:prstGeom>
          <a:ln w="0">
            <a:noFill/>
          </a:ln>
        </p:spPr>
      </p:sp>
      <p:sp>
        <p:nvSpPr>
          <p:cNvPr id="20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9DAD537-E8A1-4127-A44A-0C438230A62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2"/>
          <p:cNvSpPr>
            <a:spLocks noGrp="1"/>
          </p:cNvSpPr>
          <p:nvPr>
            <p:ph type="sldImg"/>
          </p:nvPr>
        </p:nvSpPr>
        <p:spPr>
          <a:xfrm>
            <a:off x="-46080" y="95400"/>
            <a:ext cx="6908760" cy="3887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7A6089-53AE-4E30-AD66-2A14112F962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D147012-F5A6-4FEF-85AB-FEA7AF1A773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8950040-4381-4B3D-960F-D05E51D0475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D2531D-B705-4AD4-BF80-5541279EE2F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2"/>
          <p:cNvSpPr>
            <a:spLocks noGrp="1"/>
          </p:cNvSpPr>
          <p:nvPr>
            <p:ph type="sldImg"/>
          </p:nvPr>
        </p:nvSpPr>
        <p:spPr>
          <a:xfrm>
            <a:off x="-46080" y="95400"/>
            <a:ext cx="6908760" cy="3887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1F4477-C6B8-47FE-85F7-68EAF97B790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6080" y="95400"/>
            <a:ext cx="6908760" cy="3887640"/>
          </a:xfrm>
          <a:prstGeom prst="rect">
            <a:avLst/>
          </a:prstGeom>
          <a:ln w="0">
            <a:noFill/>
          </a:ln>
        </p:spPr>
      </p:sp>
      <p:sp>
        <p:nvSpPr>
          <p:cNvPr id="251"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3869B1-CEA8-4237-92ED-7DFAC98F2F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6080" y="95400"/>
            <a:ext cx="6908760" cy="3887640"/>
          </a:xfrm>
          <a:prstGeom prst="rect">
            <a:avLst/>
          </a:prstGeom>
          <a:ln w="0">
            <a:noFill/>
          </a:ln>
        </p:spPr>
      </p:sp>
      <p:sp>
        <p:nvSpPr>
          <p:cNvPr id="254"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56AAD82-A50B-4068-AE1F-75009979646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2FE1E40-9A82-4BBD-9104-AD6BEEAB90C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bjekti obavljanja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revizije tehničke dokumentacije, građenja objekata odnosno izvođenja pojedinih radova na građenju objekta i vršenje stručnog nadzora može da obavlja privredno društvo, pravno lice, odnosno preduzetnik (u daljem tekstu: privredno društvo), koje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adnju objekata infrastrukture odnosno za objekte u državnoj svojini, koji se grade za potrebe državnih organa i pravnih lica čiji je osnivač država, može vršiti komisija iz člana 124 stav 5 ovog zakona, kao i privredno društvo u vlasništvu drž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radnju objekata infrastrukture odnosno za objekte na kojima svojinsko-pravna ovlašćenja vrši jedinica lokalne samouprave, koji se grade za potrebe organa lokalne samouprave, organa lokalne uprave, organizacija i javnih službi čiji je osnivač jedinica lokalne samouprave, može vršiti privredno društvo u vlasništvu jedinice lokalne samoupr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vije ili više jedinica lokalne samouprave mogu organizovati zajedničko obavljanje poslova iz stava 3 ovog člana,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i građenja objekta, odnosno izvođenja pojedinih radova na građenju objekta, može da obavlja i strano privredno društvo, ako ispunjava uslove utvrđene ovim zakonom.</a:t>
            </a:r>
            <a:endParaRPr b="0" lang="en-US" sz="900" spc="-1" strike="noStrike">
              <a:solidFill>
                <a:srgbClr val="000000"/>
              </a:solidFill>
              <a:latin typeface="Arial"/>
            </a:endParaRPr>
          </a:p>
        </p:txBody>
      </p:sp>
      <p:sp>
        <p:nvSpPr>
          <p:cNvPr id="210" name="PlaceHolder 2"/>
          <p:cNvSpPr>
            <a:spLocks noGrp="1"/>
          </p:cNvSpPr>
          <p:nvPr>
            <p:ph type="sldImg"/>
          </p:nvPr>
        </p:nvSpPr>
        <p:spPr>
          <a:xfrm>
            <a:off x="-46080" y="95400"/>
            <a:ext cx="6908760" cy="38876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46080" y="95400"/>
            <a:ext cx="6908760" cy="3887640"/>
          </a:xfrm>
          <a:prstGeom prst="rect">
            <a:avLst/>
          </a:prstGeom>
          <a:ln w="0">
            <a:noFill/>
          </a:ln>
        </p:spPr>
      </p:sp>
      <p:sp>
        <p:nvSpPr>
          <p:cNvPr id="257"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rađevinska dozvola izdaje se rješenjem na osnov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dejnog projekta, odnosno glavnog projekta, ovjerenih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vještaja o pozitivnoj reviziji idejnog projekta odnosno glavnog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okaza o pravu svojine, odnosno drugom pravu na građevinskom zemljištu (list nepokretnosti, ugovor o koncesiji, odluka o utvrđivanju javnog interesa i dr.) ili dokaza o pravu građenja, odnosno drugom pravu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glasnost na elaborat zaštite životne sredine ako se građevinska dozvola izdaje na osnovu idejnog projekta, odnosno saglasnosti, mišljenja i drugih dokaza utvrđenih posebnim propisima ako se građevinska dozvola izdaje na osnovu glavnog pro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okaza o osiguranju od odgovornosti privrednog društva koje je izradilo i revidovalo idejni, odnosno glav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KLE, NESTO JE DRUGACIJA DOKUMENTACIJA KOJA SE PODNOSI UZ PRIJAVU GRAĐENJA INSPEKCIJSKOM ORGANU!!!!</a:t>
            </a: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E2DB6F8-9B1E-4C61-AA08-613015B5271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FB06C8-0EBB-4BF7-AF20-BD71F52A869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46080" y="95400"/>
            <a:ext cx="6908760" cy="3887640"/>
          </a:xfrm>
          <a:prstGeom prst="rect">
            <a:avLst/>
          </a:prstGeom>
          <a:ln w="0">
            <a:noFill/>
          </a:ln>
        </p:spPr>
      </p:sp>
      <p:sp>
        <p:nvSpPr>
          <p:cNvPr id="26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38DC622-AECF-45D8-A37C-FCCE515A051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2"/>
          <p:cNvSpPr>
            <a:spLocks noGrp="1"/>
          </p:cNvSpPr>
          <p:nvPr>
            <p:ph type="sldImg"/>
          </p:nvPr>
        </p:nvSpPr>
        <p:spPr>
          <a:xfrm>
            <a:off x="-46080" y="95400"/>
            <a:ext cx="6908760" cy="3887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7AB0E7C-0CF5-4B18-9415-5901EB6434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46080" y="95400"/>
            <a:ext cx="6908760" cy="3887640"/>
          </a:xfrm>
          <a:prstGeom prst="rect">
            <a:avLst/>
          </a:prstGeom>
          <a:ln w="0">
            <a:noFill/>
          </a:ln>
        </p:spPr>
      </p:sp>
      <p:sp>
        <p:nvSpPr>
          <p:cNvPr id="26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6080" y="95400"/>
            <a:ext cx="6908760" cy="3887640"/>
          </a:xfrm>
          <a:prstGeom prst="rect">
            <a:avLst/>
          </a:prstGeom>
          <a:ln w="0">
            <a:noFill/>
          </a:ln>
        </p:spPr>
      </p:sp>
      <p:sp>
        <p:nvSpPr>
          <p:cNvPr id="26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81726C1-039D-40C7-BC6A-FF20BC48C50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6080" y="95400"/>
            <a:ext cx="6908760" cy="3887640"/>
          </a:xfrm>
          <a:prstGeom prst="rect">
            <a:avLst/>
          </a:prstGeom>
          <a:ln w="0">
            <a:noFill/>
          </a:ln>
        </p:spPr>
      </p:sp>
      <p:sp>
        <p:nvSpPr>
          <p:cNvPr id="272"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obrađuje građevinski otpad nastao tokom građenja na gradilištu u skladu sa planom upravljanja građevinskim otpadom, sačinjenim u skladu sa posebnim propisima, 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kloni objekte privremenog karaktera koji su služili za izvođenje radova na gradilištu u roku od 30 dana od dana završetka radov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uva na gradilištu gradilišnu dokumentaciju</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pozori nadzorni organ u slučaju da u revidovanom glavnom projektu uoči nedostatke </a:t>
            </a:r>
            <a:r>
              <a:rPr b="0" lang="sr-Latn-ME" sz="900" spc="-1" strike="noStrike">
                <a:solidFill>
                  <a:srgbClr val="404040"/>
                </a:solidFill>
                <a:latin typeface="Arial"/>
              </a:rPr>
              <a:t>koji ne utiču na promjenu horizontalnih i vertikalnih gabarita objekta, kao ni promjenu fasade zgrade (ako se radi o zgrad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 po nalogu nadzornog organa obustavi radove, u slučaju da uočeni nedostaci u glavnom projektu ugrožavaju život i zdravlje ljudi, sigurnost objekta, okolinu, saobraćaj i/ili susjedne objekte</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6510AA5-1446-4CE9-B003-65CDC31547F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D25F5A-67E9-4F83-9CA8-85A9761573F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Ukidanje licenci (Član 139)</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će ukinuti licencu ak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1) imalac licence djelatnost vrši suprotno članu 122 stav 3, članu 123 st. 2, 3 i 4, članu 124 stav 2 i članu 125 st. 2, 3 i 4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2) se utvrdi da je licenca izdata na osnovu netačnih podatak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3) imalac licence prestane da ispunjava uslove za obavljanje djelatnosti iz člana 122 st. 1, 2, 4 i 5, člana 123 st. 1 i 5, člana 124 st. 1 i 3 i člana 125 stav 1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4) imaocu licence bude oduzeta poslovna sposobn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5) imalac licence prestane da postoji po sili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6) imalac licence postane trajno nesposoban za obavljanje poslova, 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7) imalac licence u toku jedne godine se nije stručno usavršavao odnosno ako u toku jedne godine nije stekao propisani broj bodova u skladu sa članom 125a ovog zakona, u kom slučaju predlog za ukidanje licence podnosi Komor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po službenoj dužnosti pokrene postupak ukidanja licence ako sazna da su se stekli uslovi iz stava 1 ovog čla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Ako revident, stručni nadzor, revizor, glavni državni odnosno gradski arhitekta, nadležni organ lokalne uprave, organ za tehničke uslove, odnosno nadležni inspekcijski organ sazna da su se stekli uslovi za ukidanje licence, dužan je da podnese predlog za ukidanj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Ukidanje licence, u slučaju iz stava 1 tačka 1 ovog člana vrši se na period od tri mjeseca do pet godina ili trajno ako imalac licence djelatnost vrši suprotno čl. 122 i 123 ovog zakona, odnosno na period od jedne do pet godina ili trajno ako imalac licence djelatnost vrši suprotno čl. 124 i 125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Revidentu odnosno stručnom nadzoru i revizoru iz člana 125 st. 3 i 4 ovog zakona licenca se obavezno ukida trajno ako je sačinio pozitivan izvještaj o reviziji, a osnovni urbanistički parametri (indeks izgrađenosti, indeks zauzetosti, spratnost odnosno visina objekta i odnos prema građevinskoj liniji) u revidovanom glavnom projektu nijesu u skladu sa urbanističko-tehničkim uslovima, odnosno objekat koji se gradi nije u skladu sa osnovnim urbanističkim parametrima iz revidovanog glavnog projek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Donošenjem izvršnog rješenja kojim se ukida licenca prestaju sva prava po osnovu izdat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O ukidanju licence Ministarstvo obavještava nadležni inspekcijski organ u roku od tri dana od dana donošenja rješenja o ukidanju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Licenca se ukida na način i po postupku po kojem se izdaj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Nakon isteka roka na koji je licenca ukinuta, može se podnijeti zahtjev za izdavanje nov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na internet stranici objavi rješenje o ukidanju licence, u roku od tri dana od dana donošenja rješenj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Registar licenci (Član 140)</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Izdate i oduzete licence upisuju se u registar licenci koji vodi Ministarstvo. Podaci iz registra su javni i objavljuju se na internet stranici Ministarstv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Podzakonski akt za licence (Član 141)</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Bliži način i postupak izdavanja, mirovanja i oduzimanja licenci i način vođenja registara licenci propisuje Ministarstv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3" name="PlaceHolder 2"/>
          <p:cNvSpPr>
            <a:spLocks noGrp="1"/>
          </p:cNvSpPr>
          <p:nvPr>
            <p:ph type="sldImg"/>
          </p:nvPr>
        </p:nvSpPr>
        <p:spPr>
          <a:xfrm>
            <a:off x="-46080" y="95400"/>
            <a:ext cx="6908760" cy="3887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7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BE601D2-8038-470D-946A-41015797DDD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2"/>
          <p:cNvSpPr>
            <a:spLocks noGrp="1"/>
          </p:cNvSpPr>
          <p:nvPr>
            <p:ph type="sldImg"/>
          </p:nvPr>
        </p:nvSpPr>
        <p:spPr>
          <a:xfrm>
            <a:off x="-46080" y="95400"/>
            <a:ext cx="6908760" cy="3887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p:txBody>
      </p:sp>
      <p:sp>
        <p:nvSpPr>
          <p:cNvPr id="27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CFD9E8-9A0E-4D06-AA8F-1F755221C04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2"/>
          <p:cNvSpPr>
            <a:spLocks noGrp="1"/>
          </p:cNvSpPr>
          <p:nvPr>
            <p:ph type="sldImg"/>
          </p:nvPr>
        </p:nvSpPr>
        <p:spPr>
          <a:xfrm>
            <a:off x="-46080" y="95400"/>
            <a:ext cx="6908760" cy="3887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vlašćeni inženjer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ovlašćenog inženjera za složeni inženjerski objekat može da vrši ovlašćeni inženjer iz člana 123 ovog zakona koji ima najmanje tri godine radnog iskustva na stručnim poslovima izrade tehničke dokumentacije i/ili građenja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ava 1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ava 1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91A8DCD-183A-45AE-8413-BAA37E8457C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2"/>
          <p:cNvSpPr>
            <a:spLocks noGrp="1"/>
          </p:cNvSpPr>
          <p:nvPr>
            <p:ph type="sldImg"/>
          </p:nvPr>
        </p:nvSpPr>
        <p:spPr>
          <a:xfrm>
            <a:off x="-46080" y="95400"/>
            <a:ext cx="6908760" cy="3887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 položenim stručnim ispitom i da je član Kom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evizor i vršilac tehničkog pregleda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revizora za složeni inženjerski objekat odnosno poslove tehničkog pregleda za složeni inženjerski objekat može da vrši revizor iz člana 125 ovog zakona ako ima četiri godine radnog iskustva na izradi tehničke dokumentacije i/ili građenja složenih inženjerskih objeka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iz stava 1 ovog člana može da obavlja i strano fizičko lice, ako ispunjava uslove utvrđene ovim čla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 1 i 2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 1 i 2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7F44F4-D283-4BCF-8355-ABEE46E46DF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2"/>
          <p:cNvSpPr>
            <a:spLocks noGrp="1"/>
          </p:cNvSpPr>
          <p:nvPr>
            <p:ph type="sldImg"/>
          </p:nvPr>
        </p:nvSpPr>
        <p:spPr>
          <a:xfrm>
            <a:off x="-46080" y="95400"/>
            <a:ext cx="6908760" cy="38876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E8612E1-0C5D-4E8B-BEF3-E7CB18066EF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2"/>
          <p:cNvSpPr>
            <a:spLocks noGrp="1"/>
          </p:cNvSpPr>
          <p:nvPr>
            <p:ph type="sldImg"/>
          </p:nvPr>
        </p:nvSpPr>
        <p:spPr>
          <a:xfrm>
            <a:off x="-46080" y="95400"/>
            <a:ext cx="6908760" cy="38876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B502C5-7343-44F4-84B1-4AA40FCE92A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B7197B-D2E0-46EE-AD67-CFB9CA3D164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46080" y="95400"/>
            <a:ext cx="6908760" cy="3887640"/>
          </a:xfrm>
          <a:prstGeom prst="rect">
            <a:avLst/>
          </a:prstGeom>
          <a:ln w="0">
            <a:noFill/>
          </a:ln>
        </p:spPr>
      </p:sp>
      <p:sp>
        <p:nvSpPr>
          <p:cNvPr id="21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iz člana 192 ovog zakona koji je vršio tehnički pregled složenog inženjerskog objekta dužan je da potpiše elektronskim potpisom izjavu iz člana 190 stav 4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dužan je da elektronskim potpisom potpiše izvještaj o tehničkom pregledu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revizije iz člana 192 ovog zakona dužan je da potpiše elektronskim potpisom svaki dio tehničke dokumentacije koji je revidova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i vršilac nadzora iz člana 192 ovog zakona, dužni su da potpišu elektronskim potpisom izjavu iz člana 190 ovog zakona, da je objekat izgrađen u skladu sa građevinskom dozvolom i revidova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59FC5A-B416-49A9-9E06-68E2371F10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2"/>
          <p:cNvSpPr>
            <a:spLocks noGrp="1"/>
          </p:cNvSpPr>
          <p:nvPr>
            <p:ph type="sldImg"/>
          </p:nvPr>
        </p:nvSpPr>
        <p:spPr>
          <a:xfrm>
            <a:off x="-46080" y="95400"/>
            <a:ext cx="6908760" cy="38876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izrade tehničke dokumentacije i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izrađuje tehničku dokumentaciju (projektant) odnosno privredno društvo koje gradi objekat (izvođač radova), dužno je da za obavljanje djelatnosti izrade tehničke dokumentacije, dijela tehničke dokumentacije odnosno građenje ili izvođenje pojedinih vrsta radova na građenju objekta, ima najmanje jednog zaposlenog ovlašćenog inženjera po vrsti projekta koji izrađuje i to za: arhitektonski, građevinski, elektrotehnički i mašinski projekat, odnosno vrsti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ljanje pojedinih poslova iz stava 1 ovog člana projektant odnosno izvođač radova može da obezbijedi i na osnovu zaključenog ugovora sa drugim privrednim društvom koje ima zaposlenog ovlašćenog inženjera za određenu vrstu projekta odnosno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Privredno društvo iz stava 1 ovog člana obavezno je da tehničku dokumentaciju izrađuje u skladu sa urbanističko-tehničkim uslovima, ovim zakonom, posebnim propisima i pravilima struke u odnosu na pitanja koja nijesu uređena ovim zakonom, odnosno izvodi radov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ava 1 ovog člana, dužno je da imenuje ovlašćenog inženjera koji rukovodi izradom cjelokupne tehničke dokumentacije odnosno ovlašćenog inženjera koji rukovodi građenjem objekta u cjeli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 1 i 2 ovog člana, dužno je da imenuje ovlašćenog inženjera za svaku vrstu projekta iz stava 1 ovog člana, odnosno ovlašćenog inženjera za svaku vrstu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9A951E8-2796-46A9-8FDE-68CE44D0EBF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2"/>
          <p:cNvSpPr>
            <a:spLocks noGrp="1"/>
          </p:cNvSpPr>
          <p:nvPr>
            <p:ph type="sldImg"/>
          </p:nvPr>
        </p:nvSpPr>
        <p:spPr>
          <a:xfrm>
            <a:off x="-46080" y="95400"/>
            <a:ext cx="6908760" cy="3887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privredno društvo iz stava 1 ovog člana dužno je da ima, za zgrade bruto građevinske površine do 300 m2, najmanje jednog zaposlenog revizora za arhitektonski ili građevinski projekat; za zgrade bruto građevinske površine od 300 do 1.000 m2, najmanje jednog zaposlenog revizora za arhitektonski i građevinski projekat; za zgrade bruto gradjevinske površine od 1.000 do 10.000 m2, najmanje jednog zaposlenog revizora za arhitektonski, građevinski i elektrotehnički projekat i za inženjerske objekte koji nijesu složeni inženjerski objekti, najmanje jednog zaposlenog revizora za dva projekta iz člana 7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za objekte finansirane u cjelosti ili djelimično iz: državnog budžeta, donacija, kredita međunarodnih finansijskih institucija, sredstava drugih država kroz projekte međunarodne saradnje i pomoći, reviziju odnosno stručni nadzor može da obavlja i komisija koju čine fizička lica koja ispunjavaju uslove iz člana 19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U slučaju iz stava 5 ovog člana, komisiju određuje Ministarstvo na predlog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Fizičko lice koje je član komisije iz stava 5 ovog člana, dužno je da prije početka obavljanja djelatnosti zaključi ugovor o osiguranju od profesionalne odgovornosti za štetu koja može da nastane investitorima ili trećim licima od vršenja njegove djelatnosti i dostavi dokaz o zaključenom ugovoru o osiguranj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Minimalnu sumu osiguranja na koju se zaključuje ugovor iz stava 7 ovog člana, način utvrđivanja osigurane sume i visinu naknade za rad komisije iz stava 5 ovog člana propisuje Vl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606447-2C14-4EC7-BB50-854E08319CC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a:t>
            </a:r>
            <a:r>
              <a:rPr b="0" lang="sr-Latn-ME" sz="900" spc="-1" strike="noStrike" u="sng">
                <a:solidFill>
                  <a:srgbClr val="ff0000"/>
                </a:solidFill>
                <a:uFillTx/>
                <a:latin typeface="Arial"/>
              </a:rPr>
              <a:t>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99CE568-8321-4C7F-9581-95A19E51CE4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2"/>
          <p:cNvSpPr>
            <a:spLocks noGrp="1"/>
          </p:cNvSpPr>
          <p:nvPr>
            <p:ph type="sldImg"/>
          </p:nvPr>
        </p:nvSpPr>
        <p:spPr>
          <a:xfrm>
            <a:off x="-46080" y="95400"/>
            <a:ext cx="6908760" cy="3887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p:txBody>
      </p:sp>
      <p:sp>
        <p:nvSpPr>
          <p:cNvPr id="22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8AC5CD4-BCEA-44B1-86F6-C10E1E7C89D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2"/>
          <p:cNvSpPr>
            <a:spLocks noGrp="1"/>
          </p:cNvSpPr>
          <p:nvPr>
            <p:ph type="sldImg"/>
          </p:nvPr>
        </p:nvSpPr>
        <p:spPr>
          <a:xfrm>
            <a:off x="-46080" y="95400"/>
            <a:ext cx="6908760" cy="3887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klađivanje licen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2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odnosno fizičko lice koje je, do stupanja na snagu ovog zakona, steklo licencu, ovlašćenje odnosno ovjereno odobrenje u oblasti izgradnje objekata dužno je da, u roku od šest mjeseci od dana stupanja na snagu ovog zakona pribavi licenc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nim iskustvom u svojstvu ovlašćenog inženjera iz člana 125 stav 1 ovog zakona i ovlašćenog inženjera za složeni inženjerski objekat iz člana 193 ovog zakona smatra se i radno iskustvo koje je glavni inženjer i odgovorni inženjer, odnosno vodeći projektant i odgovorni projektant ostvario u skladu sa Zakonom o uređenju prostora i izgradnji objekata ("Službeni list CG", br. 51/08, 34/11, 35/13 i 33/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a društva odnosno fizička lica u roku iz stava 1 ovog člana ne pribave licencu u skladu sa ovim zakonom, licence odnosno ovlašćenja izdata u skladu sa propisima koji su važili do stupanja na snagu ovog zakona prestaju da v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pristupanja Crne Gore Evropskoj uniji, strana lica obavljaće djelatnost u skladu sa uslovima utvrđenim ovim zakonom za domaća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privrednom društvu odnosno fizičkom licu iz stava 1 ovog člana koje je do 27.09.2017. godine zaključilo ugovor o vršenju poslova iz djelatnosti uređenih ovim zakonom, licence, ovlašćenja odnosno ovjerena odobrenja za potrebe tog ugovora važe do isteka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iz stava 5 ovog člana su sastavni dio tehničke dokumentacije, odnosno izvještaja o stručnom nadzoru</a:t>
            </a:r>
            <a:endParaRPr b="0" lang="en-US" sz="900" spc="-1" strike="noStrike">
              <a:solidFill>
                <a:srgbClr val="000000"/>
              </a:solidFill>
              <a:latin typeface="Arial"/>
            </a:endParaRPr>
          </a:p>
        </p:txBody>
      </p:sp>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4F8ECB0-195B-4F5D-BDFB-203F78D4F47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2"/>
          <p:cNvSpPr>
            <a:spLocks noGrp="1"/>
          </p:cNvSpPr>
          <p:nvPr>
            <p:ph type="sldImg"/>
          </p:nvPr>
        </p:nvSpPr>
        <p:spPr>
          <a:xfrm>
            <a:off x="-46080" y="95400"/>
            <a:ext cx="6908760" cy="3887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0AFB71-F688-4FBC-88D0-5F16D074C6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EFDD45-87AB-4142-BFF4-1FA8C9C52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B47DE0-2406-41DB-AC7F-40789B299F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20B3FB-0FAE-4F18-B991-5EEAF0C7E8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85B6D-AD8A-45B4-A31E-073E08D3A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0CC72-4B31-4043-9033-CB60EEFDE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08650-ED17-4AAE-AEE7-3AA899D6C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8ECB9-0CBB-4C16-90C1-A36A54EAB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2B362-4135-4EE1-ACE2-ABE1DD9BF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A7505-7840-4ECC-AB06-B06F92C3D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4A895-9E24-4CB3-B998-17B8DE730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E2A173-B5E2-46D9-95BF-9BBF9C5C1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9960D-340E-42D7-949F-179E23A23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A5690-70AF-4EEB-9DB1-C2819E04B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5BF1A-5B3D-44E7-B1BD-63806AEB9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E9294-4260-44E5-9943-D8999E513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3F57D-D01B-460A-BEEE-66E731DBC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9EC3E5-EE11-47F4-B79C-62502C3C9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81E21B-290B-4951-BF84-F382019EE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56C661-2BF3-43E7-9377-C57092ADF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9EC261-DB27-47AB-99DA-135E82E83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19D9D2-B3D0-484B-A21C-20429C37E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D4E38E-EB82-482D-912E-A60B04F5C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EF5E9-8042-4CE6-A619-7AC59FD5C2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1080-F51E-4F5B-A4FD-F398B15345E2}"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2EB7-4AB6-4551-B500-408C07D00FBA}"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3 (kraj)</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endParaRPr b="0" lang="en-US" sz="2800" spc="-1" strike="noStrike">
              <a:solidFill>
                <a:srgbClr val="ffffff"/>
              </a:solidFill>
              <a:latin typeface="Arial"/>
            </a:endParaRPr>
          </a:p>
        </p:txBody>
      </p:sp>
      <p:sp>
        <p:nvSpPr>
          <p:cNvPr id="140" name=""/>
          <p:cNvSpPr txBox="1"/>
          <p:nvPr/>
        </p:nvSpPr>
        <p:spPr>
          <a:xfrm>
            <a:off x="766800" y="2060640"/>
            <a:ext cx="10874160" cy="396072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jelatnosti koje može da obavlja strano lice (privredno društvo), ako ispunjava uslove utvrđene ovim zakonom:</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radu tehničke dokumentacije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građenje objekta (izvođenje pojedinih radova na građenju objekt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800" spc="-1" strike="noStrike">
                <a:solidFill>
                  <a:srgbClr val="ffffff"/>
                </a:solidFill>
                <a:latin typeface="Arial"/>
              </a:rPr>
              <a:t>Do pristupanja Crne Gore Evropskoj uniji, strana lica obavljaće djelatnost u skladu sa uslovima utvrđenim ovim zakonom za domaća lica.</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43160" y="176040"/>
            <a:ext cx="714384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r>
              <a:rPr b="0" lang="sr-Latn-ME" sz="1800" spc="-1" strike="noStrike">
                <a:solidFill>
                  <a:srgbClr val="ffffff"/>
                </a:solidFill>
                <a:latin typeface="Arial"/>
              </a:rPr>
              <a:t>primjenjivaće se od dana pristupanja Crne Gore Evropskoj uniji</a:t>
            </a:r>
            <a:endParaRPr b="0" lang="en-US" sz="1800" spc="-1" strike="noStrike">
              <a:solidFill>
                <a:srgbClr val="ffffff"/>
              </a:solidFill>
              <a:latin typeface="Arial"/>
            </a:endParaRPr>
          </a:p>
        </p:txBody>
      </p:sp>
      <p:sp>
        <p:nvSpPr>
          <p:cNvPr id="142" name=""/>
          <p:cNvSpPr txBox="1"/>
          <p:nvPr/>
        </p:nvSpPr>
        <p:spPr>
          <a:xfrm>
            <a:off x="263160" y="1501920"/>
            <a:ext cx="11520360" cy="475128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obrenje za obavljanje djelatnosti izdato od nadležnog organa države sjedišta odnosno prebivališta stranog lica („odobrenje“) utiče na prava stranog lica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ne</a:t>
            </a:r>
            <a:r>
              <a:rPr b="0" lang="sr-Latn-ME" sz="1500" spc="-1" strike="noStrike">
                <a:solidFill>
                  <a:srgbClr val="ffffff"/>
                </a:solidFill>
                <a:latin typeface="Arial"/>
              </a:rPr>
              <a:t> posjeduje „odobren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ili fizičko lice može da obavlja djelatnost ako ispunjava uslove utvrđene ovim zakonom za domaća lic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mora da ispunjava i uslove utvrđene zakonom kojim se uređuje zapošljavanje i rad stranac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posjeduje</a:t>
            </a:r>
            <a:r>
              <a:rPr b="0" lang="sr-Latn-ME" sz="1500" spc="-1" strike="noStrike">
                <a:solidFill>
                  <a:srgbClr val="ffffff"/>
                </a:solidFill>
                <a:latin typeface="Arial"/>
              </a:rPr>
              <a:t> „odobrenje“dužno je da, prije početka prvog posla, „odobrenje“ dostavi Ministarstvu i nadležnom inspekcijskom organ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potpisnice Ugovora o evropskom ekonomskom prostoru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 pod uslovom da se „odobrenje“ odnosi na djelatnost uređenu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potpisnice EEP, može da bude ovlašćeni inženjer, pod uslovom da se „odobrenje“ odnosi na djelatnost uređenu ovim zakon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koja nije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i, pod uslovima propisanim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koja nije članica EEP može da obavlja djelatnost, ako ima:</a:t>
            </a:r>
            <a:endParaRPr b="0" lang="en-US" sz="1500" spc="-1" strike="noStrike">
              <a:solidFill>
                <a:srgbClr val="ffffff"/>
              </a:solidFill>
              <a:latin typeface="Arial"/>
            </a:endParaRPr>
          </a:p>
          <a:p>
            <a:pPr lvl="3" marL="16002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znatu inostranu kvalifikaciju za obavljanje te djelatnosti u skladu sa zakonom kojim se uređuje priznavanje inostranih kvalifikacija i regulisane profesije i zakonom kojim se uređuje zapošljavanje i rad stranaca, na principu uzajamnos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PRIVREMENO I POVREMENO OBAVLJANJE DJELATNOSTI STRANOG LICA</a:t>
            </a:r>
            <a:endParaRPr b="0" lang="en-US" sz="2400" spc="-1" strike="noStrike">
              <a:solidFill>
                <a:srgbClr val="ffffff"/>
              </a:solidFill>
              <a:latin typeface="Arial"/>
            </a:endParaRPr>
          </a:p>
        </p:txBody>
      </p:sp>
      <p:sp>
        <p:nvSpPr>
          <p:cNvPr id="144" name=""/>
          <p:cNvSpPr txBox="1"/>
          <p:nvPr/>
        </p:nvSpPr>
        <p:spPr>
          <a:xfrm>
            <a:off x="695160" y="1998360"/>
            <a:ext cx="10801440" cy="439092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vremeno</a:t>
            </a:r>
            <a:r>
              <a:rPr b="0" lang="sr-Latn-ME" sz="1600" spc="-1" strike="noStrike">
                <a:solidFill>
                  <a:srgbClr val="ffffff"/>
                </a:solidFill>
                <a:latin typeface="Arial"/>
              </a:rPr>
              <a:t> obavljanje djelatnosti: obavljanje djelatnosti stranog lica za određeni vremenski period, najduže do godinu dana, uz mogućnost produženja tog rok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ovremeno</a:t>
            </a:r>
            <a:r>
              <a:rPr b="0" lang="sr-Latn-ME" sz="1600" spc="-1" strike="noStrike">
                <a:solidFill>
                  <a:srgbClr val="ffffff"/>
                </a:solidFill>
                <a:latin typeface="Arial"/>
              </a:rPr>
              <a:t> obavljanje djelatnosti: obavljanje djelatnosti stranog lica za konkretni posao (izrada tehničke dokumentacije, izvođenje radov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privredno druš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ima „odobren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o namjeri privremenog ili povremenog obavljanja djelatnosti dostavi Ministarstvu i nadležnom inspekcijskom organu pisanu izjavu i odobrenje koje se odnosi na djelatnost uređenu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strano fizičko lic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sjeduje odobr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podnese Ministarstvu pisanu izjavu o vršenju privremenih odnosno povremenih poslova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 da ima stručne kvalifikacije potrebne za obavljanje te djelatnosti u skladu sa zakonom kojim se uređuje priznavanje inostranih kvalifikacija i regulisane profes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ZABRANA KONFLIKTA INTERESA</a:t>
            </a:r>
            <a:endParaRPr b="0" lang="en-US" sz="2400" spc="-1" strike="noStrike">
              <a:solidFill>
                <a:srgbClr val="ffffff"/>
              </a:solidFill>
              <a:latin typeface="Arial"/>
            </a:endParaRPr>
          </a:p>
        </p:txBody>
      </p:sp>
      <p:sp>
        <p:nvSpPr>
          <p:cNvPr id="146" name=""/>
          <p:cNvSpPr txBox="1"/>
          <p:nvPr/>
        </p:nvSpPr>
        <p:spPr>
          <a:xfrm>
            <a:off x="1219320" y="1752120"/>
            <a:ext cx="10362960" cy="434340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za lice zaposleno u Ministarstvu, nadležnom organu lokalne uprave odnosno organu za tehničke uslove, kao i za lice koje vrši inspekcijski nadzor, da vrši poslo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Arial"/>
              </a:rPr>
              <a:t>člana stručnog tima za izradu planskog dokumenta (ovo ne važi  za  lice koje je predstavnik jedinice lokalne samoupra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og inženje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a tehničke dokumentacije 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tručnog nadzor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vrše reviziju tehničke dokumentacij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fizičko lice zaposleno u privrednom društvu  koje je izradilo tehničku dokumentaciju, odnosno učestvovalo u izradi tehničke dokumentacije ili dijela tehničke dokumentacij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stručni nadzor vrš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lice zaposleno u privrednom društvu koje je izvođač radova na tom objektu </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iju tehničke dokumentacije (odnosno stručni nadzor nad građenjem objekta) ne može da vrši revizor koji je sa ovlašćenim inženjerom koji je izradio tehničku dokumentaciju (odnosno koji gradi objekat):</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rodnik u pravoj liniji i pobočnoj do drugog stepena srodstv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bračni i vanbračni supruž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svojilac i usvoje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zajedničkog domaćinstv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INŽENJERSKA KOMORA CRNE GORE</a:t>
            </a:r>
            <a:endParaRPr b="0" lang="en-US" sz="2400" spc="-1" strike="noStrike">
              <a:solidFill>
                <a:srgbClr val="ffffff"/>
              </a:solidFill>
              <a:latin typeface="Arial"/>
            </a:endParaRPr>
          </a:p>
        </p:txBody>
      </p:sp>
      <p:sp>
        <p:nvSpPr>
          <p:cNvPr id="148" name=""/>
          <p:cNvSpPr txBox="1"/>
          <p:nvPr/>
        </p:nvSpPr>
        <p:spPr>
          <a:xfrm>
            <a:off x="623520" y="1844280"/>
            <a:ext cx="10945800" cy="4535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adi obezbjeđivanja stručnosti i zaštite javnog interesa, lica koja rade na poslovima izgradnje objekata učlanjuju se u Komor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djelatnost uređenu ovim zakono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Komore može biti i strano fizičko li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zor nad zakonitošću rada Komore vrši Ministarstvo, u skladu sa zakonom.</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Nadležnos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napređuje i obezbjeđuje stručno usavršavanje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jima miruje 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stručnih obuka i ostvarenog broja bodova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edlaže tehničke osnove za izradu propisa iz člana 72 ovog zako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izuje i sprovodi polaganje stručnog ispi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tvrđuje programe strulčne obuke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ređuje visinu članarin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štiti, usklađuje i zastupa interes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si etički kodeks i stara se o njegovom sprovođenju; 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ređuje disciplinsku odgovornost, vodi disciplinske postupke protiv svojih članova i izriče disciplinske mje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je stručna mišljenja i ekspertize po zahtjevima državnih organa i institucij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LEGALIZACIJA BESPRAVNIH OBJEKATA</a:t>
            </a:r>
            <a:endParaRPr b="0" lang="en-US" sz="2400" spc="-1" strike="noStrike">
              <a:solidFill>
                <a:srgbClr val="ffffff"/>
              </a:solidFill>
              <a:latin typeface="Arial"/>
            </a:endParaRPr>
          </a:p>
        </p:txBody>
      </p:sp>
      <p:sp>
        <p:nvSpPr>
          <p:cNvPr id="150" name=""/>
          <p:cNvSpPr txBox="1"/>
          <p:nvPr/>
        </p:nvSpPr>
        <p:spPr>
          <a:xfrm>
            <a:off x="839880" y="1773360"/>
            <a:ext cx="10874160" cy="475128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upak legalizacije bespravnog objekta pokreće se podnošenjem zahtjeva za legalizaciju </a:t>
            </a:r>
            <a:r>
              <a:rPr b="0" lang="sr-Latn-ME" sz="1400" spc="-1" strike="noStrike">
                <a:solidFill>
                  <a:srgbClr val="59c1ff"/>
                </a:solidFill>
                <a:latin typeface="Arial"/>
              </a:rPr>
              <a:t>(rok je bio 14, jul 2018. godine) od </a:t>
            </a:r>
            <a:r>
              <a:rPr b="0" lang="sr-Latn-ME" sz="1400" spc="-1" strike="noStrike">
                <a:solidFill>
                  <a:srgbClr val="ffffff"/>
                </a:solidFill>
                <a:latin typeface="Arial"/>
              </a:rPr>
              <a:t>strane vlasnika, uz dokumentacij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 premjera izvedenog stanja izgrađenog objekta (od strane licencirane geodetske organizacije koji ovjerava Katastar)</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otografije svih fasada bespravnog objekta u jpg formatu minimalne rezolucije 2 megapiksel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privrednog društva (sa licencom za projektovanje i izgradnju) o postojanju bespravnog objekta na orto-foto snimku i usklađenosti bespravnog objekta sa osnovnim urbanističkim parametrima i/ili smjernicama važećeg planskog dokumenta i izjavu revidenta da je bespravni objekat izgrađen u skladu sa osnovnim urbanističkim parametrima i/ili smjernicama važećeg planskog dokumen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zabilježbi postojanja objekta u katastarskoj evidenciji odnosno izvoda iz katastra nepokretnosti ili druge odgovarajuće evidencije nepokretnost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Legalizaciju bespravnih objekata sprovodi nadležni organ lokalne uprave (rješenje o legalizacij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snovni urbanistički parametri iz važeće planske dokumentacije  koje bespravni objekat mora ispunjavati za donošenje rješenja o legalizaciji s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mjen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izgrađen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zauzet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atnost odnosno visina objekta 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prema građevinskoj liniji.</a:t>
            </a:r>
            <a:endParaRPr b="0" lang="en-US" sz="1400" spc="-1" strike="noStrike">
              <a:solidFill>
                <a:srgbClr val="ffffff"/>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59c1ff"/>
                </a:solidFill>
                <a:latin typeface="Arial"/>
              </a:rPr>
              <a:t>Ovom materijom se nećemo detaljnije baviti. Zainteresovani mogu da pogledaju u tekstu zakona poglavlje X.</a:t>
            </a:r>
            <a:r>
              <a:rPr b="1" i="1" lang="sr-Latn-ME" sz="1400" spc="-1" strike="noStrike">
                <a:solidFill>
                  <a:srgbClr val="59c1ff"/>
                </a:solidFill>
                <a:latin typeface="Arial"/>
              </a:rPr>
              <a:t> LEGALIZACIJA BESPRAVNIH OBJEKATA</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2" name=""/>
          <p:cNvSpPr txBox="1"/>
          <p:nvPr/>
        </p:nvSpPr>
        <p:spPr>
          <a:xfrm>
            <a:off x="766440" y="1557000"/>
            <a:ext cx="10815480" cy="453852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uto-putevi, brze saobraćajnice, magistralni i regionalni putevi, tuneli dužine preko 200m, mostovi raspona preko 30m, željezničke pruge, aerodromi, luk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dalekovodi i trafostanice naponskog nivoa 10 kV i više, kablovske podzemne instalacije naponskog nivoa 10 kV i više, elektrane snage 1MVA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naftovodi</a:t>
            </a:r>
            <a:r>
              <a:rPr b="0" lang="sr-Latn-ME" sz="1400" spc="-1" strike="noStrike">
                <a:solidFill>
                  <a:srgbClr val="ffffff"/>
                </a:solidFill>
                <a:latin typeface="Arial"/>
              </a:rPr>
              <a:t>, </a:t>
            </a:r>
            <a:r>
              <a:rPr b="0" lang="sr-Latn-ME" sz="1400" spc="-1" strike="noStrike">
                <a:solidFill>
                  <a:srgbClr val="ffff59"/>
                </a:solidFill>
                <a:latin typeface="Arial"/>
              </a:rPr>
              <a:t>gasovodi protoka većeg od 100 m3/h</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brane i akumulacije ispunjene </a:t>
            </a:r>
            <a:r>
              <a:rPr b="0" lang="sr-Latn-ME" sz="1400" spc="-1" strike="noStrike">
                <a:solidFill>
                  <a:srgbClr val="ff0000"/>
                </a:solidFill>
                <a:latin typeface="Arial"/>
              </a:rPr>
              <a:t>jalovinom</a:t>
            </a:r>
            <a:r>
              <a:rPr b="0" lang="sr-Latn-ME" sz="1400" spc="-1" strike="noStrike">
                <a:solidFill>
                  <a:srgbClr val="ffffff"/>
                </a:solidFill>
                <a:latin typeface="Arial"/>
              </a:rPr>
              <a:t> ili pepelom za koje je propisano tehničko osmatranj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rojenje za skladištenje i pretakanje tečnog prirodnog gasa i postrojenja za skladištenje i pretakanje tečnog naftnog gasa, i postrojenja za skladištenje i pretakanje nafte i derivate nafte </a:t>
            </a:r>
            <a:r>
              <a:rPr b="0" lang="sr-Latn-ME" sz="1400" spc="-1" strike="noStrike">
                <a:solidFill>
                  <a:srgbClr val="ffff59"/>
                </a:solidFill>
                <a:latin typeface="Arial"/>
              </a:rPr>
              <a:t>kapaciteta većeg od 1000m3</a:t>
            </a:r>
            <a:r>
              <a:rPr b="0" lang="sr-Latn-ME" sz="1400" spc="-1" strike="noStrike">
                <a:solidFill>
                  <a:srgbClr val="ffffff"/>
                </a:solidFill>
                <a:latin typeface="Arial"/>
              </a:rPr>
              <a:t>, </a:t>
            </a:r>
            <a:r>
              <a:rPr b="0" lang="sr-Latn-ME" sz="1400" spc="-1" strike="noStrike">
                <a:solidFill>
                  <a:srgbClr val="ff0000"/>
                </a:solidFill>
                <a:latin typeface="Arial"/>
              </a:rPr>
              <a:t>stanice za snabdjevanje motornih vozila naftnim derivatima i gasom</a:t>
            </a:r>
            <a:r>
              <a:rPr b="0" lang="sr-Latn-ME" sz="1400" spc="-1" strike="noStrike">
                <a:solidFill>
                  <a:srgbClr val="ffffff"/>
                </a:solidFill>
                <a:latin typeface="Arial"/>
              </a:rPr>
              <a:t>,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za proizvodnju, transport i distribuciju toplotne energije za daljinsko grijanje i/ili hlađenje </a:t>
            </a:r>
            <a:r>
              <a:rPr b="0" lang="sr-Latn-ME" sz="1400" spc="-1" strike="noStrike">
                <a:solidFill>
                  <a:srgbClr val="ffff59"/>
                </a:solidFill>
                <a:latin typeface="Arial"/>
              </a:rPr>
              <a:t>snage 1MWth </a:t>
            </a:r>
            <a:r>
              <a:rPr b="0" lang="sr-Latn-ME" sz="1400" spc="-1" strike="noStrike">
                <a:solidFill>
                  <a:srgbClr val="ffffff"/>
                </a:solidFill>
                <a:latin typeface="Arial"/>
              </a:rPr>
              <a:t>, objekti za proizvodnju, transport i distribuciju toplotne energije za industrijsku upotrebu </a:t>
            </a:r>
            <a:r>
              <a:rPr b="0" lang="sr-Latn-ME" sz="1400" spc="-1" strike="noStrike">
                <a:solidFill>
                  <a:srgbClr val="ffff59"/>
                </a:solidFill>
                <a:latin typeface="Arial"/>
              </a:rPr>
              <a:t>snage 1MWth i više i </a:t>
            </a:r>
            <a:r>
              <a:rPr b="0" lang="sr-Latn-ME" sz="1400" spc="-1" strike="noStrike">
                <a:solidFill>
                  <a:srgbClr val="ffffff"/>
                </a:solidFill>
                <a:latin typeface="Arial"/>
              </a:rPr>
              <a:t> stabilne posude pod pritiskom,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u kojima se proizvode i skladište opasne materije </a:t>
            </a:r>
            <a:r>
              <a:rPr b="0" lang="sr-Latn-ME" sz="1400" spc="-1" strike="noStrike">
                <a:solidFill>
                  <a:srgbClr val="ff0000"/>
                </a:solidFill>
                <a:latin typeface="Arial"/>
              </a:rPr>
              <a:t>i slični objekti i postrojenja koja bi svojim radom mogla ugroziti životnu sredin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rađevine i postrojenja za hemijsku i tešku industriju, </a:t>
            </a:r>
            <a:r>
              <a:rPr b="0" lang="sr-Latn-ME" sz="1400" spc="-1" strike="noStrike">
                <a:solidFill>
                  <a:srgbClr val="ff0000"/>
                </a:solidFill>
                <a:latin typeface="Arial"/>
              </a:rPr>
              <a:t>deponije</a:t>
            </a:r>
            <a:r>
              <a:rPr b="0" lang="sr-Latn-ME" sz="1400" spc="-1" strike="noStrike">
                <a:solidFill>
                  <a:srgbClr val="ffffff"/>
                </a:solidFill>
                <a:latin typeface="Arial"/>
              </a:rPr>
              <a:t>, postrojenja za dobijanje energije iz otpada </a:t>
            </a:r>
            <a:r>
              <a:rPr b="0" lang="sr-Latn-ME" sz="1400" spc="-1" strike="noStrike">
                <a:solidFill>
                  <a:srgbClr val="ffff59"/>
                </a:solidFill>
                <a:latin typeface="Arial"/>
              </a:rPr>
              <a:t>snage od 1MW i više </a:t>
            </a:r>
            <a:r>
              <a:rPr b="0" lang="sr-Latn-ME" sz="1400" spc="-1" strike="noStrike">
                <a:solidFill>
                  <a:srgbClr val="ff0000"/>
                </a:solidFill>
                <a:latin typeface="Arial"/>
              </a:rPr>
              <a:t>, postrojenja za anaerobnu digestiju otpada, postrojenja za prečišćavanje vo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4" name=""/>
          <p:cNvSpPr txBox="1"/>
          <p:nvPr/>
        </p:nvSpPr>
        <p:spPr>
          <a:xfrm>
            <a:off x="766440" y="1557000"/>
            <a:ext cx="10815480" cy="453852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auto-putevi, brze saobraćajnice, magistralni i regionalni putevi, tuneli, mostovi, željezničke pruge, aerodromi, lu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asovodi protoka većeg od 100 m3/​h,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brane i akumulacije ispunjene pepelom za koje je propisano tehničko osmatran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ostrojenje za skladištenje i pretakanje tečnog prirodnog gasa kapaciteta većeg od 1000m3, postrojenja za skladištenje i pretakanje tečnog naftnog gasa kapaciteta većeg od 1000m3, postrojenja za skladištenje i pretakanje nafte i derivata nafte kapaciteta većeg od 1000m3,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za proizvodnju, transport i distribuciju toplotne energije za daljinsko grijanje i/​ili hlađenje snage 1MWth i više, objekti za proizvodnju, transport i distribuciju toplotne energije za industrijsku upotrebu snage 1MWth i više i stabilne posude pod pritisk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u kojima se proizvode i skladište opasne materi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rađevine i postrojenja za hemijsku i tešku industriju i postrojenja za dobijanje energije iz otpada snage od 1MW i viš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GRADNJA SLOŽENOG INŽENJERSKOG OBJEKTA</a:t>
            </a:r>
            <a:endParaRPr b="0" lang="en-US" sz="2800" spc="-1" strike="noStrike">
              <a:solidFill>
                <a:srgbClr val="ffffff"/>
              </a:solidFill>
              <a:latin typeface="Arial"/>
            </a:endParaRPr>
          </a:p>
        </p:txBody>
      </p:sp>
      <p:sp>
        <p:nvSpPr>
          <p:cNvPr id="156" name=""/>
          <p:cNvSpPr txBox="1"/>
          <p:nvPr/>
        </p:nvSpPr>
        <p:spPr>
          <a:xfrm>
            <a:off x="407880" y="1466640"/>
            <a:ext cx="1130472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uhv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zvođenje istražnih radnj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građenje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radnju i ispitivanje ugrađene oprem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enje stručnog nadzora nad građenjem objekata 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tvaranje uslova za upotrebu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spitivanje i puštanje objekta u ra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sadržina tehničke dokumentacije za složeni inženjerski objekat </a:t>
            </a:r>
            <a:r>
              <a:rPr b="0" lang="sr-Latn-ME" sz="1200" spc="-1" strike="noStrike">
                <a:solidFill>
                  <a:srgbClr val="ffffff"/>
                </a:solidFill>
                <a:latin typeface="Arial"/>
              </a:rPr>
              <a:t>(način izrade i bližu sadržinu tehničke dokumentacije propisuje organ državne uprave nadležan za djelatnost koja se vrši u složenom inženjerskom objek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o rješenje- </a:t>
            </a:r>
            <a:r>
              <a:rPr b="0" lang="sr-Latn-ME" sz="1200" spc="-1" strike="noStrike">
                <a:solidFill>
                  <a:srgbClr val="ffffff"/>
                </a:solidFill>
                <a:latin typeface="Arial"/>
              </a:rPr>
              <a:t>generalna koncepcija za izgradnju objekta; tehničko-tehnološke i ekonomske karakteristike objekta; moguće varijante prostornih i tehničkih rješenja.../može se suziti širina koridora infrastrukture određena planskim dokumentom, uz saglasnost Ministarstva i organ državne uprave nadležan za poslove infrastrukture na koje se odnosi koridor</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i projekat</a:t>
            </a:r>
            <a:r>
              <a:rPr b="0" lang="sr-Latn-ME" sz="1200" spc="-1" strike="noStrike">
                <a:solidFill>
                  <a:srgbClr val="ffffff"/>
                </a:solidFill>
                <a:latin typeface="Arial"/>
              </a:rPr>
              <a:t> -razrađuje idejno rješenje, izrađuje se za potrebe izdavanja građevinske dozvol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Glavni projekat </a:t>
            </a:r>
            <a:r>
              <a:rPr b="0" lang="sr-Latn-ME" sz="1200" spc="-1" strike="noStrike">
                <a:solidFill>
                  <a:srgbClr val="ffffff"/>
                </a:solidFill>
                <a:latin typeface="Arial"/>
              </a:rPr>
              <a:t>-razrađuje idejni projekat (ako je na osnovu njega izdata građevinska dozvola), sadrži i dokumentaciju o ugradnji i funkcionalnom ispitivanju ugrađene opreme; može da sadrži obavezu osmatranja i ispitivanja objekta nakon puštanja u rad.</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Projekat izvedenog stanja </a:t>
            </a:r>
            <a:r>
              <a:rPr b="0" lang="sr-Latn-ME" sz="1200" spc="-1" strike="noStrike">
                <a:solidFill>
                  <a:srgbClr val="ffffff"/>
                </a:solidFill>
                <a:latin typeface="Arial"/>
              </a:rPr>
              <a:t>je revidovani glavni projekat sa izmjenama nastalim u toku građenja objekta usljed (opravdanih) okolnosti, a radi se i za potrebe održavanja objek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ali projekti, elaborati i podloge-izrađuju i za izradu, u toku izrade ili nakon izrade idejnog rješenja, idejnog projekta i glavnog projekta (projekti, elaborati ili podloge geodezije, geomehanike, tehnologije i dr. u skladu sa posebnim propisim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8" name=""/>
          <p:cNvSpPr txBox="1"/>
          <p:nvPr/>
        </p:nvSpPr>
        <p:spPr>
          <a:xfrm>
            <a:off x="695160" y="1989000"/>
            <a:ext cx="10887120" cy="41068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vršenja revizije složenog inženjerskog objekta propis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a određuje organ državne uprave nadležan za djelatnost koja se vrši u složenom inženjerskom objektu na predlog investi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snosi trošk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evi</a:t>
            </a:r>
            <a:r>
              <a:rPr b="0" lang="mk-MK" sz="1600" spc="-1" strike="noStrike">
                <a:solidFill>
                  <a:srgbClr val="ffffff"/>
                </a:solidFill>
                <a:latin typeface="Arial"/>
                <a:ea typeface="Times New Roman"/>
              </a:rPr>
              <a:t>zija tehničke dokumentacije izrađene po propisima dugih zemalja </a:t>
            </a:r>
            <a:r>
              <a:rPr b="0" lang="sr-Latn-CS" sz="1600" spc="-1" strike="noStrike">
                <a:solidFill>
                  <a:srgbClr val="ffffff"/>
                </a:solidFill>
                <a:latin typeface="Arial"/>
                <a:ea typeface="Times New Roman"/>
              </a:rPr>
              <a:t>radi se na prevodenom primjerku na crnogorski jezik i </a:t>
            </a:r>
            <a:r>
              <a:rPr b="0" lang="mk-MK" sz="1600" spc="-1" strike="noStrike">
                <a:solidFill>
                  <a:srgbClr val="ffffff"/>
                </a:solidFill>
                <a:latin typeface="Arial"/>
                <a:ea typeface="Times New Roman"/>
              </a:rPr>
              <a:t>obuhvata provjeru usklađenosti sa zakonom</a:t>
            </a:r>
            <a:r>
              <a:rPr b="0" lang="sr-Latn-ME" sz="1600" spc="-1" strike="noStrike">
                <a:solidFill>
                  <a:srgbClr val="ffffff"/>
                </a:solidFill>
                <a:latin typeface="Arial"/>
                <a:ea typeface="Times New Roman"/>
              </a:rPr>
              <a:t> i pravilima struke</a:t>
            </a:r>
            <a:r>
              <a:rPr b="0" lang="sr-Latn-CS" sz="1600" spc="-1" strike="noStrike">
                <a:solidFill>
                  <a:srgbClr val="ffffff"/>
                </a:solidFill>
                <a:latin typeface="Arial"/>
                <a:ea typeface="Times New Roman"/>
              </a:rPr>
              <a:t>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onovna revizija obavezna u slučajevima promjene tehničkih propisa, u periodu nakon revizije, a prije podnošenja </a:t>
            </a:r>
            <a:r>
              <a:rPr b="0" lang="sr-Latn-ME" sz="1600" spc="-1" strike="noStrike">
                <a:solidFill>
                  <a:srgbClr val="ffffff"/>
                </a:solidFill>
                <a:latin typeface="Arial"/>
                <a:ea typeface="Times New Roman"/>
              </a:rPr>
              <a:t>zahtjeva za izdavanje građevinske dozvole</a:t>
            </a:r>
            <a:r>
              <a:rPr b="0" lang="en-GB" sz="1600" spc="-1" strike="noStrike">
                <a:solidFill>
                  <a:srgbClr val="ffffff"/>
                </a:solidFill>
                <a:latin typeface="Arial"/>
              </a:rPr>
              <a:t> </a:t>
            </a:r>
            <a:r>
              <a:rPr b="0" lang="sr-Latn-ME" sz="1600" spc="-1" strike="noStrike">
                <a:solidFill>
                  <a:srgbClr val="ffffff"/>
                </a:solidFill>
                <a:latin typeface="Arial"/>
              </a:rPr>
              <a:t> (idejni  i/ili glavni projekat moraju se usaglasiti sa tim promjenama prije </a:t>
            </a:r>
            <a:r>
              <a:rPr b="0" lang="en-US" sz="1600" spc="-1" strike="noStrike">
                <a:solidFill>
                  <a:srgbClr val="ffffff"/>
                </a:solidFill>
                <a:latin typeface="Arial"/>
              </a:rPr>
              <a:t>p</a:t>
            </a:r>
            <a:r>
              <a:rPr b="0" lang="sr-Latn-ME" sz="1600" spc="-1" strike="noStrike">
                <a:solidFill>
                  <a:srgbClr val="ffffff"/>
                </a:solidFill>
                <a:latin typeface="Arial"/>
              </a:rPr>
              <a:t>onovne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je dužan da o izvršenoj reviziji sačini i potpiše konačni izvješt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BAVLJANJA DJELATNOSTI I SUBJEKTI</a:t>
            </a:r>
            <a:endParaRPr b="0" lang="en-US" sz="3200" spc="-1" strike="noStrike">
              <a:solidFill>
                <a:srgbClr val="ffffff"/>
              </a:solidFill>
              <a:latin typeface="Arial"/>
            </a:endParaRPr>
          </a:p>
        </p:txBody>
      </p:sp>
      <p:sp>
        <p:nvSpPr>
          <p:cNvPr id="124" name=""/>
          <p:cNvSpPr txBox="1"/>
          <p:nvPr/>
        </p:nvSpPr>
        <p:spPr>
          <a:xfrm>
            <a:off x="766440" y="1752120"/>
            <a:ext cx="10815480" cy="4343400"/>
          </a:xfrm>
          <a:prstGeom prst="rect">
            <a:avLst/>
          </a:prstGeom>
          <a:noFill/>
          <a:ln w="0">
            <a:noFill/>
          </a:ln>
        </p:spPr>
        <p:txBody>
          <a:bodyPr anchor="t">
            <a:normAutofit/>
          </a:bodyPr>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i za koju se moraju ispuniti posebni uslovi definisani ovim zakonom:</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rade tehničke dokumentacije,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evizije tehničke dokumentacije,</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građenja objekata odnosno izvođenja pojedinih radova na građenju objekta i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vršenje stručnog nadzora </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ubjekti:</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pravno lice, odnosno preduzetnik (u daljem tekstu: privredno društvo)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uzetno, reviziju tehničke dokumentacije i vršenje stručnog nadzora može vršiti:</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komisija (čine je fizička lica koja ispunjavaju uslove za revizora za složene inženjerske objekte, i ova lica moraju imati zaključen </a:t>
            </a:r>
            <a:r>
              <a:rPr b="0" lang="pl-PL" sz="1100" spc="-1" strike="noStrike">
                <a:solidFill>
                  <a:srgbClr val="ffffff"/>
                </a:solidFill>
                <a:latin typeface="Arial"/>
              </a:rPr>
              <a:t>ugovor o osiguranju od profesionalne odgovornosti </a:t>
            </a:r>
            <a:r>
              <a:rPr b="0" lang="sr-Latn-ME" sz="1100" spc="-1" strike="noStrike">
                <a:solidFill>
                  <a:srgbClr val="ffffff"/>
                </a:solidFill>
                <a:latin typeface="Arial"/>
              </a:rPr>
              <a:t>),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finansirane u cjelosti ili djelimično iz: državnog budžeta, donacija, kredita međunarodnih finansijskih institucija, sredstava drugih država kroz projekte međunarodne saradnje i pomoći,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drž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jedinice lokalne samoupr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na kojima svojinsko-pravna ovlašćenja vrši jedinica lokalne samouprave, koji se grade za potrebe organa lokalne samouprave, organa lokalne uprave, organizacija i javnih službi čiji je osnivač jedinica lokalne samouprave. (Dvije ili više jedinica lokalne samouprave mogu organizovati zajedničko obavljanje ovih poslova u skladu sa zakonom).</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 izrade tehničke dokumentacije i građenja objekta, odnosno izvođenja pojedinih radova na građenju objekta, može da obavlja i STRANO privredno društvo, ako ispunjava uslove utvrđene ovim zakonom.</a:t>
            </a:r>
            <a:endParaRPr b="0" lang="en-US" sz="1100" spc="-1" strike="noStrike">
              <a:solidFill>
                <a:srgbClr val="ffffff"/>
              </a:solidFill>
              <a:latin typeface="Arial"/>
            </a:endParaRPr>
          </a:p>
          <a:p>
            <a:pPr marL="343080" indent="-343080">
              <a:lnSpc>
                <a:spcPct val="9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60" name=""/>
          <p:cNvSpPr txBox="1"/>
          <p:nvPr/>
        </p:nvSpPr>
        <p:spPr>
          <a:xfrm>
            <a:off x="766440" y="1552680"/>
            <a:ext cx="10729800" cy="439560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za svaku vrstu projekta; idejno rješenje, idejni projekat, glavni projekat):</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rbanističko-tehničkim uslovima, </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klađenosti sa posebnim propisima i pravilima struke u odnosu na pitanja koja nijesu uređena ovim zakonom i usklađenosti sa ovim zakonom</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u usklađenost svih djelova tehničke dokumentacije</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idej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ravnosti i tačnosti tehničko-tehnoloških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rhitektonska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abilnosti i bezbjednosti;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acionalnost projektovanih rješen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izgradnji objekta.</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glav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idejnim projektom (ako je na osnovu njega izdata dozvol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slovima oblikovanja i materijalizacije, posebno u odnosu na ambijentalna svojstva područ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 osnovnih zahtjeva za objekat;</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građenju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nadležnosti i procedura za izdavanje</a:t>
            </a:r>
            <a:endParaRPr b="0" lang="en-US" sz="2800" spc="-1" strike="noStrike">
              <a:solidFill>
                <a:srgbClr val="ffffff"/>
              </a:solidFill>
              <a:latin typeface="Arial"/>
            </a:endParaRPr>
          </a:p>
        </p:txBody>
      </p:sp>
      <p:sp>
        <p:nvSpPr>
          <p:cNvPr id="162" name=""/>
          <p:cNvSpPr txBox="1"/>
          <p:nvPr/>
        </p:nvSpPr>
        <p:spPr>
          <a:xfrm>
            <a:off x="479520" y="1989000"/>
            <a:ext cx="11377440" cy="4106880"/>
          </a:xfrm>
          <a:prstGeom prst="rect">
            <a:avLst/>
          </a:prstGeom>
          <a:noFill/>
          <a:ln w="0">
            <a:noFill/>
          </a:ln>
        </p:spPr>
        <p:txBody>
          <a:bodyPr anchor="t">
            <a:normAutofit/>
          </a:bodyPr>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nošenje zahtjeva od strane investitora uz dokumentaciju</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je  Ministarstvo rješenjem</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davanje rješenja u roku 3</a:t>
            </a:r>
            <a:r>
              <a:rPr b="0" lang="sr-Latn-ME" sz="1600" spc="-1" strike="noStrike">
                <a:solidFill>
                  <a:srgbClr val="ffffff"/>
                </a:solidFill>
                <a:latin typeface="Arial"/>
              </a:rPr>
              <a:t>0 </a:t>
            </a:r>
            <a:r>
              <a:rPr b="0" lang="en-US" sz="1600" spc="-1" strike="noStrike">
                <a:solidFill>
                  <a:srgbClr val="ffffff"/>
                </a:solidFill>
                <a:latin typeface="Arial"/>
              </a:rPr>
              <a:t> </a:t>
            </a:r>
            <a:r>
              <a:rPr b="0" lang="sr-Latn-CS" sz="1600" spc="-1" strike="noStrike">
                <a:solidFill>
                  <a:srgbClr val="ffffff"/>
                </a:solidFill>
                <a:latin typeface="Arial"/>
              </a:rPr>
              <a:t>dana (</a:t>
            </a:r>
            <a:r>
              <a:rPr b="0" lang="pl-PL" sz="1600" spc="-1" strike="noStrike">
                <a:solidFill>
                  <a:srgbClr val="ffffff"/>
                </a:solidFill>
                <a:latin typeface="Arial"/>
              </a:rPr>
              <a:t>za objekte za koje je potrebna izrada elaborata o procjeni uticaja na životnu sredinu ili objekat na području pod zaštitom UNESCO, izdaje se u roku od 60 dan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a dozvola sadrži, naročito:</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e podatke o podnosiocu zahtjeva, ovlašćenom inženjeru koji rukovodi izradom tehničke dokumentacije u cjelini i revizoru koji rukovodi revizijom tehničke dokumentacije u cjelini;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okaciju;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stu i namjenu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aznost građenja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u izrade glavnog projekta, ako se građevinska dozvola izdaje na osnovu idejnog projekt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p</a:t>
            </a:r>
            <a:r>
              <a:rPr b="0" lang="en-GB" sz="1600" spc="-1" strike="noStrike">
                <a:solidFill>
                  <a:srgbClr val="ffffff"/>
                </a:solidFill>
                <a:latin typeface="Arial"/>
                <a:ea typeface="Times New Roman"/>
              </a:rPr>
              <a:t>oznavanje javnosti sa građevinskom dozvolom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inistarstvo </a:t>
            </a:r>
            <a:r>
              <a:rPr b="0" lang="sr-Latn-ME" sz="1600" spc="-1" strike="noStrike">
                <a:solidFill>
                  <a:srgbClr val="ffffff"/>
                </a:solidFill>
                <a:latin typeface="Arial"/>
                <a:ea typeface="Times New Roman"/>
              </a:rPr>
              <a:t>– </a:t>
            </a:r>
            <a:r>
              <a:rPr b="0" lang="en-GB" sz="1600" spc="-1" strike="noStrike">
                <a:solidFill>
                  <a:srgbClr val="ffffff"/>
                </a:solidFill>
                <a:latin typeface="Arial"/>
                <a:ea typeface="Times New Roman"/>
              </a:rPr>
              <a:t>objavljuje</a:t>
            </a:r>
            <a:r>
              <a:rPr b="0" lang="sr-Latn-ME" sz="1600" spc="-1" strike="noStrike">
                <a:solidFill>
                  <a:srgbClr val="ffffff"/>
                </a:solidFill>
                <a:latin typeface="Arial"/>
                <a:ea typeface="Times New Roman"/>
              </a:rPr>
              <a:t> je</a:t>
            </a:r>
            <a:r>
              <a:rPr b="0" lang="en-GB" sz="1600" spc="-1" strike="noStrike">
                <a:solidFill>
                  <a:srgbClr val="ffffff"/>
                </a:solidFill>
                <a:latin typeface="Arial"/>
                <a:ea typeface="Times New Roman"/>
              </a:rPr>
              <a:t> na </a:t>
            </a:r>
            <a:r>
              <a:rPr b="0" lang="sr-Latn-ME" sz="1600" spc="-1" strike="noStrike">
                <a:solidFill>
                  <a:srgbClr val="ffffff"/>
                </a:solidFill>
                <a:latin typeface="Arial"/>
                <a:ea typeface="Times New Roman"/>
              </a:rPr>
              <a:t>internet stranici </a:t>
            </a:r>
            <a:r>
              <a:rPr b="0" lang="en-GB" sz="1600" spc="-1" strike="noStrike">
                <a:solidFill>
                  <a:srgbClr val="ffffff"/>
                </a:solidFill>
                <a:latin typeface="Arial"/>
                <a:ea typeface="Times New Roman"/>
              </a:rPr>
              <a:t>u roku od 7 dana od dana izda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na mjestu izgradnje objekta ističe tablu sa podacima </a:t>
            </a:r>
            <a:r>
              <a:rPr b="0" lang="vi-VN" sz="1600" spc="-1" strike="noStrike">
                <a:solidFill>
                  <a:srgbClr val="ffffff"/>
                </a:solidFill>
                <a:latin typeface="Arial"/>
                <a:ea typeface="Times New Roman"/>
              </a:rPr>
              <a:t>o investitoru, projektantu, izvođaču radova, vršiocu stručnog nadzora, ovlašćenom inženjeru koji je rukovodio izradom tehničke dokumentacije, ovlašćenom inženjeru koji rukovodi građenjem i revizoru koji je rukovodio revizijom tehničke dokumentacije, 3D vizuelizacijom objekta, odnosno prikazom trase infrastrukture i dr</a:t>
            </a:r>
            <a:r>
              <a:rPr b="0" lang="sr-Latn-ME" sz="1600" spc="-1" strike="noStrike">
                <a:solidFill>
                  <a:srgbClr val="ffffff"/>
                </a:solidFill>
                <a:latin typeface="Arial"/>
                <a:ea typeface="Times New Roman"/>
              </a:rPr>
              <a:t>. („danom dobijanja građevinske dozvo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potrebna dokumentacija</a:t>
            </a:r>
            <a:endParaRPr b="0" lang="en-US" sz="2800" spc="-1" strike="noStrike">
              <a:solidFill>
                <a:srgbClr val="ffffff"/>
              </a:solidFill>
              <a:latin typeface="Arial"/>
            </a:endParaRPr>
          </a:p>
        </p:txBody>
      </p:sp>
      <p:sp>
        <p:nvSpPr>
          <p:cNvPr id="164" name=""/>
          <p:cNvSpPr txBox="1"/>
          <p:nvPr/>
        </p:nvSpPr>
        <p:spPr>
          <a:xfrm>
            <a:off x="623880" y="1981080"/>
            <a:ext cx="11160000" cy="41148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dejni projekat, ili glavni projekat,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o pozitivnoj reviziji idejnog projekta odnosno glavnog projekta (onog iz tačke 1);</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a o pravu svojine, odnosno drugom pravu na građevinskom zemljištu (list nepokretnosti, ugovor o koncesiji, odluka o utvrđivanju javnog interesa i dr.) ili dokaz o pravu građenja, odnosno drugom pravu na objekt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glasnost na elaborat zaštite životne sredine ako se građevinska dozvola izdaje na osnovu idejnog projekta, odnosno saglasnosti, mišljenja i drugi dokazi utvrđeni posebnim propisima ako se građevinska dozvola izdaje na osnovu glavnog projekta, 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i o osiguranju od odgovornosti privrednog društva koje je izradilo i revidovalo idejni, odnosno glavni projekat.</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e iz tač. 3 i 4 pribavlja Ministarstvo po službenoj dužnosti (ne plaća se taksa, naknada, odnosno drugi troškovi izdavanja)</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ko organi za tehničke uslove ne dostave dokaze, saglasnosti i mišljenja iz tač. 3 i 4 u roku od 15 dana od dana prijema zahtjeva za njihovo dostavljanje, smatraće se da su saglasni sa revidovanim idejnim, odnosno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GRAĐENJA SLOŽENOG INŽENJERSKOG OBJEKTA</a:t>
            </a:r>
            <a:endParaRPr b="0" lang="en-US" sz="2800" spc="-1" strike="noStrike">
              <a:solidFill>
                <a:srgbClr val="ffffff"/>
              </a:solidFill>
              <a:latin typeface="Arial"/>
            </a:endParaRPr>
          </a:p>
        </p:txBody>
      </p:sp>
      <p:sp>
        <p:nvSpPr>
          <p:cNvPr id="166" name=""/>
          <p:cNvSpPr txBox="1"/>
          <p:nvPr/>
        </p:nvSpPr>
        <p:spPr>
          <a:xfrm>
            <a:off x="1193400" y="1752480"/>
            <a:ext cx="10363320" cy="411480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gradi na osnovu:</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građevinske dozvole i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cije:</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glavni projekat </a:t>
            </a:r>
            <a:r>
              <a:rPr b="0" lang="sr-Latn-ME" sz="1300" spc="-1" strike="noStrike">
                <a:solidFill>
                  <a:srgbClr val="ffffff"/>
                </a:solidFill>
                <a:latin typeface="Arial"/>
              </a:rPr>
              <a:t>ovjeren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zvještaj o pozitivnoj reviziji glavnog projekta</a:t>
            </a:r>
            <a:r>
              <a:rPr b="0" lang="sr-Latn-ME" sz="1300" spc="-1" strike="noStrike">
                <a:solidFill>
                  <a:srgbClr val="ffffff"/>
                </a:solidFill>
                <a:latin typeface="Arial"/>
              </a:rPr>
              <a:t>;</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osiguranju od odgovornosti privrednog društva koje je izradilo odnosno revidovalo glavni projekat, koje gradi objekat, koje vrši stručni nadzor,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izvođača radova;</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stručnog nadzora, i</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je dužan da sedam dana prije početka građenja objekta prijavi početak radova nadležnom inspekcijskom organu., uz dokumentaciju:</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idejnog projekta -Kompletnu dokumentaciju (tačka 1 do 5)</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glavnog projekta - investitor dostavlja dokumentaciju iz tač. 4 i 5 kao i dokaz o osiguranju od odgovornosti privrednog društva koje gradi objekat i koje vrši stručni nadzor.</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mjena investitora može da se vrši do dana stavljanja objekta u upotreb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PREMNI RADOVI ZA GRAĐENJE SLOŽENOG INŽENJERSKOG OBJEKTA</a:t>
            </a:r>
            <a:endParaRPr b="0" lang="en-US" sz="2800" spc="-1" strike="noStrike">
              <a:solidFill>
                <a:srgbClr val="ffffff"/>
              </a:solidFill>
              <a:latin typeface="Arial"/>
            </a:endParaRPr>
          </a:p>
        </p:txBody>
      </p:sp>
      <p:sp>
        <p:nvSpPr>
          <p:cNvPr id="168" name=""/>
          <p:cNvSpPr txBox="1"/>
          <p:nvPr/>
        </p:nvSpPr>
        <p:spPr>
          <a:xfrm>
            <a:off x="1186920" y="1770120"/>
            <a:ext cx="10363320" cy="41148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 se započet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izdavanju građevinske dozvole, il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na osnovu saglasnosti Vlade -pod uslovom da je investitor obezbijedio:</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ihvatljivosti građenja sa aspekta uticaja na životnu sredinu (sproveden postupak odlučivanja o potrebi procjene uticaja odnosno postupak davanja saglasnosti na elaborat procjene uticaja,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de se na osnov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koji sadrži (bliži sadržaj propisuje organ državne uprave nadležan za djelatnost koja se obavlja u složenom inženjerskom objektu): šemu organizacije gradilišta, vrstu ograde, gradilišne objekte, gradilišne saobraćajnice, mjesto za dizalice, mjesto za dopremu materijala, gradilišne priključke (elektro, saobraćajne, vodovodne) i dr., kao i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zaštite na radu , sačinjenim  u skladu sa posebnim propisima.</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lana upravljanja građevinskim otpadom, sačinjenim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rijavljuje početak pripremnih radova nadležnom inspekcijskom organu 7 dana prije početka tih radov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prijavu pripremnih radova objavljuje  na internet stranici u roku od 3 dana od dana prijema prijave rado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BAVEZE INVESTITORA</a:t>
            </a:r>
            <a:br>
              <a:rPr sz="2800"/>
            </a:br>
            <a:r>
              <a:rPr b="1" lang="sr-Latn-ME" sz="2800" spc="-1" strike="noStrike">
                <a:solidFill>
                  <a:srgbClr val="ffffff"/>
                </a:solidFill>
                <a:latin typeface="Arial"/>
              </a:rPr>
              <a:t>koji gradi složeni inženjerski objekat</a:t>
            </a:r>
            <a:endParaRPr b="0" lang="en-US" sz="28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je početka građenja investitor je dužan da izvođaču radova dostav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jereni revidovani glavni projekat u elektronskoj i analognoj formi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u dozvol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toku građenja objekta (</a:t>
            </a:r>
            <a:r>
              <a:rPr b="0" lang="vi-VN" sz="1600" spc="-1" strike="noStrike">
                <a:solidFill>
                  <a:srgbClr val="ffffff"/>
                </a:solidFill>
                <a:latin typeface="Arial"/>
              </a:rPr>
              <a:t>počev od dana izvođenja pripremnih radova na objektu do završetka svih radova i stavljanja objekta u upotrebu</a:t>
            </a:r>
            <a:r>
              <a:rPr b="0" lang="sr-Latn-ME" sz="1600" spc="-1" strike="noStrike">
                <a:solidFill>
                  <a:srgbClr val="ffffff"/>
                </a:solidFill>
                <a:latin typeface="Arial"/>
              </a:rPr>
              <a:t>) – da obezbijedi vršenje stručnog nadzor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eko privrednog društva koje je izradilo tehničku dokumentacij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72" name=""/>
          <p:cNvSpPr txBox="1"/>
          <p:nvPr/>
        </p:nvSpPr>
        <p:spPr>
          <a:xfrm>
            <a:off x="479520" y="1700280"/>
            <a:ext cx="10872720" cy="43956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 </a:t>
            </a:r>
            <a:r>
              <a:rPr b="1" lang="sr-Latn-ME" sz="1600" spc="-1" strike="noStrike">
                <a:solidFill>
                  <a:srgbClr val="ffffff"/>
                </a:solidFill>
                <a:latin typeface="Arial"/>
              </a:rPr>
              <a:t>građevinska dozvola </a:t>
            </a:r>
            <a:r>
              <a:rPr b="0" i="1" lang="sr-Latn-ME" sz="1600" spc="-1" strike="noStrike">
                <a:solidFill>
                  <a:srgbClr val="ffffff"/>
                </a:solidFill>
                <a:latin typeface="Arial"/>
              </a:rPr>
              <a:t>(za ostale objekte je to bila prijav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TRUČNI NADZOR</a:t>
            </a:r>
            <a:br>
              <a:rPr sz="2800"/>
            </a:br>
            <a:r>
              <a:rPr b="1" lang="sr-Latn-ME" sz="2400" spc="-1" strike="noStrike">
                <a:solidFill>
                  <a:srgbClr val="ffffff"/>
                </a:solidFill>
                <a:latin typeface="Arial"/>
              </a:rPr>
              <a:t>obuhvata (</a:t>
            </a:r>
            <a:r>
              <a:rPr b="1" lang="sr-Latn-ME" sz="2400" spc="-1" strike="noStrike">
                <a:solidFill>
                  <a:srgbClr val="59c1ff"/>
                </a:solidFill>
                <a:latin typeface="Arial"/>
              </a:rPr>
              <a:t>za sve objekte, </a:t>
            </a:r>
            <a:r>
              <a:rPr b="1" lang="sr-Latn-ME" sz="2400" spc="-1" strike="noStrike">
                <a:solidFill>
                  <a:srgbClr val="ffffff"/>
                </a:solidFill>
                <a:latin typeface="Arial"/>
              </a:rPr>
              <a:t>pa i za složene inženjerske objekte)</a:t>
            </a:r>
            <a:endParaRPr b="0" lang="en-US" sz="24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kod složenog inženjerskog objekta</a:t>
            </a:r>
            <a:endParaRPr b="0" lang="en-US" sz="2800" spc="-1" strike="noStrike">
              <a:solidFill>
                <a:srgbClr val="ffffff"/>
              </a:solidFill>
              <a:latin typeface="Arial"/>
            </a:endParaRPr>
          </a:p>
        </p:txBody>
      </p:sp>
      <p:sp>
        <p:nvSpPr>
          <p:cNvPr id="176" name=""/>
          <p:cNvSpPr txBox="1"/>
          <p:nvPr/>
        </p:nvSpPr>
        <p:spPr>
          <a:xfrm>
            <a:off x="479160" y="1700280"/>
            <a:ext cx="11304360" cy="440352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obavljanja stručnog nadzora, obavezne faze u toku građenja za koje se radi izvještaj i način izrade i bližu sadržinu izvještaja o stručnom nadzoru kod složenog inženjerskog objekta propisuje </a:t>
            </a:r>
            <a:r>
              <a:rPr b="1" lang="sr-Latn-ME" sz="1600" spc="-1" strike="noStrike" u="sng">
                <a:solidFill>
                  <a:srgbClr val="ffffff"/>
                </a:solidFill>
                <a:uFillTx/>
                <a:latin typeface="Arial"/>
              </a:rPr>
              <a:t>organ državne uprave nadležan za djelatnosti koje se obavljaju u složenim inženjerskim objektim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a:t>
            </a:r>
            <a:r>
              <a:rPr b="0" lang="sr-Latn-ME"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i izvještaj (</a:t>
            </a:r>
            <a:r>
              <a:rPr b="0" lang="pl-PL"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stručnog nadzora o izvedenim radovima na građenju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stručnog nadzora da je objekat građen u skladu sa revidovanim glavnim projektom odnosno, zakonom i drugim propisima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javu stručnog nadzora da je objekat podoban za upotrebu i da se može namjenski koristit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kao i </a:t>
            </a:r>
            <a:r>
              <a:rPr b="1" lang="sr-Latn-ME" sz="3200" spc="-1" strike="noStrike">
                <a:solidFill>
                  <a:srgbClr val="59c1ff"/>
                </a:solidFill>
                <a:latin typeface="Arial"/>
              </a:rPr>
              <a:t>kod ostalih objekata</a:t>
            </a:r>
            <a:r>
              <a:rPr b="1" lang="sr-Latn-ME" sz="3200" spc="-1" strike="noStrike">
                <a:solidFill>
                  <a:srgbClr val="ffffff"/>
                </a:solidFill>
                <a:latin typeface="Arial"/>
              </a:rPr>
              <a:t>)</a:t>
            </a:r>
            <a:endParaRPr b="0" lang="en-US" sz="3200" spc="-1" strike="noStrike">
              <a:solidFill>
                <a:srgbClr val="ffffff"/>
              </a:solidFill>
              <a:latin typeface="Arial"/>
            </a:endParaRPr>
          </a:p>
        </p:txBody>
      </p:sp>
      <p:sp>
        <p:nvSpPr>
          <p:cNvPr id="178" name=""/>
          <p:cNvSpPr txBox="1"/>
          <p:nvPr/>
        </p:nvSpPr>
        <p:spPr>
          <a:xfrm>
            <a:off x="550800" y="1757520"/>
            <a:ext cx="11522160" cy="4114800"/>
          </a:xfrm>
          <a:prstGeom prst="rect">
            <a:avLst/>
          </a:prstGeom>
          <a:noFill/>
          <a:ln w="0">
            <a:noFill/>
          </a:ln>
        </p:spPr>
        <p:txBody>
          <a:bodyPr anchor="t">
            <a:normAutofit fontScale="95000"/>
          </a:bodyPr>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izvodi radove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rši obilježavanje regulacionih i građevinskih linija, nivelacionih kota objekta, odnosno trase na terenu,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rganizuje gradilište na način kojim će se obezbijediti pristup lokaciji, nesmetani saobraćaj i zaštita okoline za vrijeme trajanja građenj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štiti stabla, živu ogradu i ostale zasade, koji se na osnovu posebnih propisa moraju čuvati i zaštititi tokom izvođenja građevinskih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sigurnost objekta, zaštitu i zdravlje na radu zaposlenih i zaštitu okoline (susjednih objekata i infrastruktur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dokaz o kvalitetu izvedenih radova, odnosno ugrađenih građevinskih proizvoda, instalacija i opreme, izdat od strane ovlašćenog lic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odi građevinski dnevnik i građevinsku knjigu;</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mjerenja i geodetsko osmatranje ponašanja tla i objekta u toku građenja;</a:t>
            </a:r>
            <a:r>
              <a:rPr b="0" lang="sr-Latn-ME" sz="1200" spc="-1" strike="noStrike">
                <a:solidFill>
                  <a:srgbClr val="ffffff"/>
                </a:solidFill>
                <a:latin typeface="Arial"/>
              </a:rPr>
              <a:t> </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ukloni objekte privremenog karaktera koji su služili za izvođenje radova na gradilištu u roku od 30 dana od dana završetka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čuva na gradilištu gradilišnu dokumentaciju obavijesti nadležni inspekcijski organ u slučaju nailaska na arheološka nalazišta, fosile, aktivna klizišta, podzemne vode i sl. i obustavi radove koji ih mogu ugrozit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pozori stručni nadzor u slučaju da u revidovanom glavnom projektu uoči </a:t>
            </a:r>
            <a:r>
              <a:rPr b="0" lang="sr-Latn-ME" sz="1200" spc="-1" strike="noStrike">
                <a:solidFill>
                  <a:srgbClr val="ffffff"/>
                </a:solidFill>
                <a:latin typeface="Arial"/>
              </a:rPr>
              <a:t>nedostatke koji ne utiču na promjenu horizontalnih i vertikalnih gabarita objekta, kao ni promjenu fasade zgrade (ako se radi o zgrad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LICENCE</a:t>
            </a:r>
            <a:endParaRPr b="0" lang="en-US" sz="3200" spc="-1" strike="noStrike">
              <a:solidFill>
                <a:srgbClr val="ffffff"/>
              </a:solidFill>
              <a:latin typeface="Arial"/>
            </a:endParaRPr>
          </a:p>
        </p:txBody>
      </p:sp>
      <p:sp>
        <p:nvSpPr>
          <p:cNvPr id="126" name=""/>
          <p:cNvSpPr txBox="1"/>
          <p:nvPr/>
        </p:nvSpPr>
        <p:spPr>
          <a:xfrm>
            <a:off x="911160" y="1752120"/>
            <a:ext cx="10671120" cy="4343400"/>
          </a:xfrm>
          <a:prstGeom prst="rect">
            <a:avLst/>
          </a:prstGeom>
          <a:noFill/>
          <a:ln w="0">
            <a:noFill/>
          </a:ln>
        </p:spPr>
        <p:txBody>
          <a:bodyPr anchor="t">
            <a:normAutofit/>
          </a:bodyPr>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licenca akt kojim se utvrđuje ispunjenost uslova za obavljanje djelatnosti (pravna i fizička lica, domaća i str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a tehničke dokumentacije, građenje objekata odnosno izvođenja pojedinih radova na građenju objek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a tehničke dokumentacije, vršenje stručnog nadzora </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zdavanje licence</a:t>
            </a:r>
            <a:r>
              <a:rPr b="0" lang="sr-Latn-ME" sz="1200" spc="-1" strike="noStrike">
                <a:solidFill>
                  <a:srgbClr val="ffffff"/>
                </a:solidFill>
                <a:latin typeface="Arial"/>
                <a:ea typeface="Times New Roman"/>
              </a:rPr>
              <a:t> (prvi put , nakon isteka roka važenja licence iil nakon isteka roka na koji je oduzet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ješenjem </a:t>
            </a:r>
            <a:r>
              <a:rPr b="0" lang="sr-Latn-ME" sz="1200" spc="-1" strike="noStrike">
                <a:solidFill>
                  <a:srgbClr val="ffffff"/>
                </a:solidFill>
                <a:latin typeface="Arial"/>
                <a:ea typeface="Times New Roman"/>
              </a:rPr>
              <a:t> Ministarst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ne plaća se naknada za izdavanje licenci</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za privredno društvo izdaje se za period od pet godina, uz obavezu prijave promjena koje utiču na ispunjenost uslova za sticanje licenc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za fizičko lice  na neodređeno vrijem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vodi se registar</a:t>
            </a:r>
            <a:r>
              <a:rPr b="0" lang="sr-Latn-ME" sz="1200" spc="-1" strike="noStrike">
                <a:solidFill>
                  <a:srgbClr val="ffffff"/>
                </a:solidFill>
                <a:latin typeface="Arial"/>
                <a:ea typeface="Times New Roman"/>
              </a:rPr>
              <a:t> (izdatih i oduzetih), a podaci se objavljuju na sajtu Ministarstva</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Ukidanje </a:t>
            </a:r>
            <a:r>
              <a:rPr b="0" lang="en-GB" sz="1200" spc="-1" strike="noStrike">
                <a:solidFill>
                  <a:srgbClr val="ffffff"/>
                </a:solidFill>
                <a:latin typeface="Arial"/>
                <a:ea typeface="Times New Roman"/>
              </a:rPr>
              <a:t> licence (</a:t>
            </a:r>
            <a:r>
              <a:rPr b="0" lang="sr-Latn-ME" sz="1200" spc="-1" strike="noStrike">
                <a:solidFill>
                  <a:srgbClr val="ffffff"/>
                </a:solidFill>
                <a:latin typeface="Arial"/>
                <a:ea typeface="Times New Roman"/>
              </a:rPr>
              <a:t>Ministarstvo po službenoj dužnosti, ili na zahtjev zainteresovanog lica</a:t>
            </a:r>
            <a:r>
              <a:rPr b="0" lang="en-GB" sz="1200" spc="-1" strike="noStrike">
                <a:solidFill>
                  <a:srgbClr val="ffffff"/>
                </a:solidFill>
                <a:latin typeface="Arial"/>
                <a:ea typeface="Times New Roman"/>
              </a:rPr>
              <a:t>) i obavještavanje nadležnog inspekcijskog organa, ako:</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djelatnost vrši suprotno </a:t>
            </a:r>
            <a:r>
              <a:rPr b="0" lang="sr-Latn-ME" sz="1200" spc="-1" strike="noStrike">
                <a:solidFill>
                  <a:srgbClr val="ffffff"/>
                </a:solidFill>
                <a:latin typeface="Arial"/>
                <a:ea typeface="Times New Roman"/>
              </a:rPr>
              <a:t> uslovima propisanim zakonom za obavljanje djelatnosti –oduzima se na period od 3 mjeseca do 5 godina,ili trajno za projekttanta, izvođača i ovlašćenog inženjera, ili  </a:t>
            </a:r>
            <a:r>
              <a:rPr b="0" lang="pl-PL" sz="1200" spc="-1" strike="noStrike">
                <a:solidFill>
                  <a:srgbClr val="ffffff"/>
                </a:solidFill>
                <a:latin typeface="Arial"/>
                <a:ea typeface="Times New Roman"/>
              </a:rPr>
              <a:t>na period od 1 do 5 godina ili trajno </a:t>
            </a:r>
            <a:r>
              <a:rPr b="0" lang="sr-Latn-ME" sz="1200" spc="-1" strike="noStrike">
                <a:solidFill>
                  <a:srgbClr val="ffffff"/>
                </a:solidFill>
                <a:latin typeface="Arial"/>
                <a:ea typeface="Times New Roman"/>
              </a:rPr>
              <a:t>za revidenta, stručni nadzor i revizor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se utvrdi da je licenca izdata na osnovu netačnih podatak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ispunjava uslove za obavljanje djelatnosti utvrđene ovim zakonom;</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ocu licence bude oduzeta poslovna sposobnost;</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postoji po sili zakon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ostane trajno nesposoban za obavljanje poslo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imalac licence u toku jedne godine se nije stručno usavršavao odnosno, ako u toku jedne godine nije stekao propisani broj bodov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cilj i obuhvat</a:t>
            </a:r>
            <a:endParaRPr b="0" lang="en-US" sz="2800" spc="-1" strike="noStrike">
              <a:solidFill>
                <a:srgbClr val="ffffff"/>
              </a:solidFill>
              <a:latin typeface="Arial"/>
            </a:endParaRPr>
          </a:p>
        </p:txBody>
      </p:sp>
      <p:sp>
        <p:nvSpPr>
          <p:cNvPr id="18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cilj: da se utvrdi podobnost  za upotrebu složenog inženjerskog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kontrolu usklađenosti izvedenih radova sa revidovanim glavnim projektom, kao i sa propisima, standardima, tehničkim normativima i normama kvaliteta koje važe za pojedine vrste radova, odnosno materijala, opreme i instalaci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vršiti tehnički pregled složenog inženjerskog objekta ili dijela objekta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vrši i uporedo sa građenjem objekta, a u tom slučaju vršilac tehničkog pregleda određuje se građevinskom dozvol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 se uz prisustvo nadležnog inspekcijskog orga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oca </a:t>
            </a:r>
            <a:r>
              <a:rPr b="0" lang="sr-Latn-ME" sz="1600" spc="-1" strike="noStrike">
                <a:solidFill>
                  <a:srgbClr val="ffffff"/>
                </a:solidFill>
                <a:latin typeface="Arial"/>
              </a:rPr>
              <a:t>tehničkog pregleda određ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oškove tehničkog pregleda objekta snosi investito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tehničkom pregledu podnosi se izvještaj, na osnovu kojeg se može izdati upotrebna dozvol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odobriti upotreba samo ako je objekat, odnosno dio objekta izgrađen u skladu sa građevinskom dozvolom i revidovanim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procedura</a:t>
            </a:r>
            <a:endParaRPr b="0" lang="en-US" sz="2800" spc="-1" strike="noStrike">
              <a:solidFill>
                <a:srgbClr val="ffffff"/>
              </a:solidFill>
              <a:latin typeface="Arial"/>
            </a:endParaRPr>
          </a:p>
        </p:txBody>
      </p:sp>
      <p:sp>
        <p:nvSpPr>
          <p:cNvPr id="182" name=""/>
          <p:cNvSpPr txBox="1"/>
          <p:nvPr/>
        </p:nvSpPr>
        <p:spPr>
          <a:xfrm>
            <a:off x="982440" y="1752480"/>
            <a:ext cx="10729800" cy="4251600"/>
          </a:xfrm>
          <a:prstGeom prst="rect">
            <a:avLst/>
          </a:prstGeom>
          <a:noFill/>
          <a:ln w="0">
            <a:noFill/>
          </a:ln>
        </p:spPr>
        <p:txBody>
          <a:bodyPr anchor="t">
            <a:normAutofit fontScale="97000"/>
          </a:bodyPr>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menuje se vršilac tehničkog pregleda  (imenuje ga organ državne uprave nadležan za djelatnost koja se vrši u složenom inženjerskom objekt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pregleda dokumentaciju i objekat (izvedene radove) – uz prisustvo nadležnog inspekcijskog organa - da bi utvrdio da li je objekat odoban za upotreb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o tome sačinjava izvještaj  u kojem može da predlož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otrebu objekta (uz izjavu da je objekat izgrađen u skladu sa revidovanim glavnim projektom, kao i sa propisima, standardima, tehničkim normativima i normama kvaliteta koje važe za pojedine vrste radova, odnosno materijala, opreme i instalacija).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tklanjanje utvrđenih nedostataka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u upotrebe objekta.</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an je da, u roku od 7 dana od završetka tehničkog pregleda, dostavi izvještaj o tehničkom pregledu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o, po prijemu izvještaja o tehničkom pregledu:</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daje upotrebnu dozvolu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laže investitoru otklanjanje utvrđenih nedostataka u određenom roku</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otklanja nedostatke, azatim</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htijeva ponovni tehnički pregled</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d ponovnog tehničkog pregleda kontrolišu se samo oni radovi koje je trebalo popraviti ili naknadno uraditi.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uje upotrebu objekt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a:t>
            </a:r>
            <a:endParaRPr b="0" lang="en-US" sz="2800" spc="-1" strike="noStrike">
              <a:solidFill>
                <a:srgbClr val="ffffff"/>
              </a:solidFill>
              <a:latin typeface="Arial"/>
            </a:endParaRPr>
          </a:p>
        </p:txBody>
      </p:sp>
      <p:sp>
        <p:nvSpPr>
          <p:cNvPr id="18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rišćenje složenog inženjerskog objekta nije dozvoljeno prije dobijanja upotrebne dozvole, osim u slučajevima probnog rada ili funkcionalnog ispitivanja ugrađene oprem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nu dozvolu izdaje rješenjem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se za objekat ili dio objekta za koji je građevinskom dozvolom određena faznost građenja, odnosno koji predstavlja tehničko-tehnološku cjelinu i može se kao takav samostalno koristit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 -procedura)</a:t>
            </a:r>
            <a:endParaRPr b="0" lang="en-US" sz="2800" spc="-1" strike="noStrike">
              <a:solidFill>
                <a:srgbClr val="ffffff"/>
              </a:solidFill>
              <a:latin typeface="Arial"/>
            </a:endParaRPr>
          </a:p>
        </p:txBody>
      </p:sp>
      <p:sp>
        <p:nvSpPr>
          <p:cNvPr id="186" name=""/>
          <p:cNvSpPr txBox="1"/>
          <p:nvPr/>
        </p:nvSpPr>
        <p:spPr>
          <a:xfrm>
            <a:off x="623520" y="1773000"/>
            <a:ext cx="11233080" cy="432252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podnosi zahtjev za izdavanje upotrebne dozvole, najkasnije u roku od 7 dana od dana dobijanja izjave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z zahtjev za izdavanje upotrebne dozvole investitor prilaž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izvođača radov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nadzor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okaz o izvršenim obavezama, u skladu sa posebnim propis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dovani glavni projekat, u slučaju da je građevinska dozvola izdata na idejni projekat,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jekat izvedenog objekta, u slučaju da je došlo do izmjena u toku gradn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htjev za izdavanje upotrebne dozvole objavljuje se na internet stranici Ministarstva u roku od 7 dana od dana podnošenja zahtjev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potrebna dozvola izdaje se u roku od 7 dana od dana prijema kompletne dokument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je dužno da upotrebnu dozvolu objavi na internet stranici u roku od 7 dana od dana izdav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EDAJA </a:t>
            </a:r>
            <a:r>
              <a:rPr b="1" lang="vi-VN" sz="2800" spc="-1" strike="noStrike">
                <a:solidFill>
                  <a:srgbClr val="ffffff"/>
                </a:solidFill>
                <a:latin typeface="Arial"/>
              </a:rPr>
              <a:t>IZGRAĐENOG</a:t>
            </a:r>
            <a:r>
              <a:rPr b="1" lang="sr-Latn-ME" sz="2800" spc="-1" strike="noStrike">
                <a:solidFill>
                  <a:srgbClr val="ffffff"/>
                </a:solidFill>
                <a:latin typeface="Arial"/>
              </a:rPr>
              <a:t> SLOŽENOG INŽENJERSKOG </a:t>
            </a:r>
            <a:r>
              <a:rPr b="1" lang="vi-VN" sz="2800" spc="-1" strike="noStrike">
                <a:solidFill>
                  <a:srgbClr val="ffffff"/>
                </a:solidFill>
                <a:latin typeface="Arial"/>
              </a:rPr>
              <a:t> OBJEKTA</a:t>
            </a:r>
            <a:endParaRPr b="0" lang="en-US" sz="2800" spc="-1" strike="noStrike">
              <a:solidFill>
                <a:srgbClr val="ffffff"/>
              </a:solidFill>
              <a:latin typeface="Arial"/>
            </a:endParaRPr>
          </a:p>
        </p:txBody>
      </p:sp>
      <p:sp>
        <p:nvSpPr>
          <p:cNvPr id="18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opredaja izgrađenog objekta (nakon završetka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izvođač predaje objekat Investitor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primopredaju objekta i konačan obračun vrijednosti izvedenih radov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60 dana od dana dobijanja upotrebne dozvole (osim ako ugovorom nije drukčije određen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a primopredaja objekta (nakon isteka garantnog rok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30 dana od dana isteka garantnog roka za završne radove, osim ako ugovorom nije drukčije određen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 </a:t>
            </a:r>
            <a:r>
              <a:rPr b="0" i="1" lang="sr-Latn-ME" sz="1300" spc="-1" strike="noStrike">
                <a:solidFill>
                  <a:srgbClr val="ffffff"/>
                </a:solidFill>
                <a:latin typeface="Arial"/>
              </a:rPr>
              <a:t>Kod ostalih objekata koji ne spadaju u složene, rok je 60 dana od dana prijema konačnog izvještaja stručnog nadzora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stručnog nadzora i tehničkog pregleda za složeni inž. objekat</a:t>
            </a:r>
            <a:endParaRPr b="0" lang="en-US" sz="2500" spc="-1" strike="noStrike">
              <a:solidFill>
                <a:srgbClr val="ffffff"/>
              </a:solidFill>
              <a:latin typeface="Arial"/>
            </a:endParaRPr>
          </a:p>
        </p:txBody>
      </p:sp>
      <p:sp>
        <p:nvSpPr>
          <p:cNvPr id="190" name=""/>
          <p:cNvSpPr txBox="1"/>
          <p:nvPr/>
        </p:nvSpPr>
        <p:spPr>
          <a:xfrm>
            <a:off x="695160" y="1844640"/>
            <a:ext cx="10887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jelatnost revizije tehničke dokumentacije, vršenja stručnog nadzora i vršenja tehničkog pregleda za složeni inženjerski objekat, mogu da obavlja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vredna društava koja ispunjavaju uslove za dobijanje licence za reviziju i stručni nadzor (čl.124 zakona)</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ra da ima najmanje jednog zaposlenog </a:t>
            </a:r>
            <a:r>
              <a:rPr b="0" lang="vi-VN" sz="1600" spc="-1" strike="noStrike">
                <a:solidFill>
                  <a:srgbClr val="ffffff"/>
                </a:solidFill>
                <a:latin typeface="Arial"/>
              </a:rPr>
              <a:t>revizora i to za: arhitektonski, građevinski, elektrotehnički i mašinski projekat</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revizora koji rukovodi revizijom cjelokupne tehničke dokumentacije , odnosno </a:t>
            </a:r>
            <a:r>
              <a:rPr b="0" lang="vi-VN" sz="1600" spc="-1" strike="noStrike">
                <a:solidFill>
                  <a:srgbClr val="ffffff"/>
                </a:solidFill>
                <a:latin typeface="Arial"/>
              </a:rPr>
              <a:t>koji rukovodi stručnim nadzorom nad građenjem cjelokupnog objekta</a:t>
            </a:r>
            <a:r>
              <a:rPr b="0" lang="sr-Latn-ME" sz="1600" spc="-1" strike="noStrike">
                <a:solidFill>
                  <a:srgbClr val="ffffff"/>
                </a:solidFill>
                <a:latin typeface="Arial"/>
              </a:rPr>
              <a:t> (ministarstvu dostavlja obavještenje o imenovanju)</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a:t>
            </a:r>
            <a:r>
              <a:rPr b="0" lang="pl-PL" sz="1600" spc="-1" strike="noStrike">
                <a:solidFill>
                  <a:srgbClr val="ffffff"/>
                </a:solidFill>
                <a:latin typeface="Arial"/>
              </a:rPr>
              <a:t>revizora za svaki posebni dio tehničke dokumentacije,  odnosno revizora za pojedine radove na građenju objekta </a:t>
            </a:r>
            <a:r>
              <a:rPr b="0" lang="sr-Latn-ME" sz="1600" spc="-1" strike="noStrike">
                <a:solidFill>
                  <a:srgbClr val="ffffff"/>
                </a:solidFill>
                <a:latin typeface="Arial"/>
              </a:rPr>
              <a:t>(ministarstvu dostavlja obavještenje o imenovan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misija (određuje je organ državne uprave nadležan za djelatnost koja se obavlja u složenom inženjerskom objektu) koju čine fizička lica koja ispunjavaju uslove iz člana 194 ovog zakona (uslove za revizora za složeni inž. objekat). Član komisije mora zaključiti ugovor o osiguranju od profesionalne odgovornosti i dostaviti dokaz o zaključenom ugovoru o osiguranju nadležnom inspekcijskom organ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 preko privrednog društva koje je izradilo tehničku dokumentaci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VLAŠĆENI INŽENJER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jmanje tri godine radnog iskustva na stručnim poslovima izrade tehničke dokumentacije i/ili građenja </a:t>
            </a:r>
            <a:r>
              <a:rPr b="1" lang="sr-Latn-ME" sz="1600" spc="-1" strike="noStrike" u="sng">
                <a:solidFill>
                  <a:srgbClr val="ffffff"/>
                </a:solidFill>
                <a:uFillTx/>
                <a:latin typeface="Arial"/>
              </a:rPr>
              <a:t>složenog inženjerskog objekt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REVIZOR I VRŠILAC TEHNIČKOG PREGLEDA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4" name=""/>
          <p:cNvSpPr txBox="1"/>
          <p:nvPr/>
        </p:nvSpPr>
        <p:spPr>
          <a:xfrm>
            <a:off x="911160" y="1844640"/>
            <a:ext cx="10671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i vršilac tehničkog pregleda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Revizo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crnogorski državljanin, ali i </a:t>
            </a:r>
            <a:r>
              <a:rPr b="0" lang="sr-Latn-ME" sz="1600" spc="-1" strike="noStrike" u="sng">
                <a:solidFill>
                  <a:srgbClr val="ffffff"/>
                </a:solidFill>
                <a:uFillTx/>
                <a:latin typeface="Arial"/>
              </a:rPr>
              <a:t>i strano fizičko lice, ako ispunjava uslove utvrđene ovim član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a četiri godine radnog iskustva </a:t>
            </a:r>
            <a:r>
              <a:rPr b="1" lang="sr-Latn-ME" sz="1600" spc="-1" strike="noStrike" u="sng">
                <a:solidFill>
                  <a:srgbClr val="ffffff"/>
                </a:solidFill>
                <a:uFillTx/>
                <a:latin typeface="Arial"/>
              </a:rPr>
              <a:t>na izradi tehničke dokumentacije i/ili građenja složenih inženjerskih objekata u svojstvu ovlašćenog inženjera (za složene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6" name=""/>
          <p:cNvSpPr txBox="1"/>
          <p:nvPr/>
        </p:nvSpPr>
        <p:spPr>
          <a:xfrm>
            <a:off x="695160" y="1557360"/>
            <a:ext cx="10887120" cy="4967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luži za potpisivanje (ovjeru različite dokumentacije) u procedurama tokom izgradnje objekata i složenih inženjerskih objekata, a odnosi se na elektronski potpis:</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g društva koje je učestvovalo u ovim procedurama (odnosno lica </a:t>
            </a:r>
            <a:r>
              <a:rPr b="0" lang="sr-Latn-ME" sz="1400" spc="-1" strike="noStrike">
                <a:solidFill>
                  <a:srgbClr val="ffffff"/>
                </a:solidFill>
                <a:latin typeface="Arial"/>
              </a:rPr>
              <a:t>koje je ovlašćeno da postupa u ime privrednog društva</a:t>
            </a:r>
            <a:r>
              <a:rPr b="0" lang="sr-Latn-ME" sz="1400" spc="-1" strike="noStrike">
                <a:solidFill>
                  <a:srgbClr val="ffffff"/>
                </a:solidFill>
                <a:latin typeface="Arial"/>
              </a:rPr>
              <a:t>- direktor i sl.)</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dgovornih lica</a:t>
            </a:r>
            <a:r>
              <a:rPr b="0" lang="sr-Latn-ME" sz="1400" spc="-1" strike="noStrike">
                <a:solidFill>
                  <a:srgbClr val="ffffff"/>
                </a:solidFill>
                <a:latin typeface="Arial"/>
              </a:rPr>
              <a:t>, koja su u skladu sa Zakonom odgovorna za obavljanje pojedinih procedura definisanih Zakonom</a:t>
            </a:r>
            <a:endParaRPr b="0" lang="en-US" sz="1400" spc="-1" strike="noStrike">
              <a:solidFill>
                <a:srgbClr val="ffffff"/>
              </a:solidFill>
              <a:latin typeface="Arial"/>
            </a:endParaRPr>
          </a:p>
          <a:p>
            <a:pPr>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potpisi u izradi urbanističkog projekta i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izradilo urbanistički projekat odnosno tehničku dokumentaciju - dužno da potpiše svaki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revidovalo tehničku dokumentaciju - dužno da potpiše svaki di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rukovodi izradom urbanističkog projekta odnosno tehničke dokumentacije u cjelini - dužan da potpiše svaki posebni dio urbanističkog projekta odnosno tehničke dokumentacije čijom izrad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izrađuje dio urbanističkog projekta odnosno tehničke dokumentacije -  dužan da potpiše taj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tehničke dokumentacije koji rukovodi revizijom tehničke dokumentacije u cjelini –dužan da potpiše svaki posebni dio tehničke dokumentacije čijom revizij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dijela tehničke dokumentacije koji reviduje dio tehničke dokumentacije - dužan da potpiše taj dio tehničke dokumentacij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8" name=""/>
          <p:cNvSpPr txBox="1"/>
          <p:nvPr/>
        </p:nvSpPr>
        <p:spPr>
          <a:xfrm>
            <a:off x="766440" y="1699920"/>
            <a:ext cx="1081548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građenja i stručnog nadzora</a:t>
            </a:r>
            <a:endParaRPr b="0" lang="en-US" sz="1500" spc="-1" strike="noStrike">
              <a:solidFill>
                <a:srgbClr val="ffffff"/>
              </a:solidFill>
              <a:latin typeface="Arial"/>
            </a:endParaRPr>
          </a:p>
          <a:p>
            <a:pPr lvl="1" marL="743040" indent="-285840" algn="just">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odnosno lice ovlašćeno za zastupanje) </a:t>
            </a:r>
            <a:r>
              <a:rPr b="0" lang="pl-PL" sz="1500" spc="-1" strike="noStrike">
                <a:solidFill>
                  <a:srgbClr val="ffffff"/>
                </a:solidFill>
                <a:latin typeface="Arial"/>
              </a:rPr>
              <a:t>koje je vršilo stručni nadzor </a:t>
            </a:r>
            <a:r>
              <a:rPr b="0" lang="sr-Latn-ME" sz="1500" spc="-1" strike="noStrike">
                <a:solidFill>
                  <a:srgbClr val="ffffff"/>
                </a:solidFill>
                <a:latin typeface="Arial"/>
              </a:rPr>
              <a:t>- dužno da potpiše konačni izvještaj o vršenju stručnog nadzora, kao i izjavu </a:t>
            </a:r>
            <a:r>
              <a:rPr b="0" lang="vi-VN" sz="1500" spc="-1" strike="noStrike">
                <a:solidFill>
                  <a:srgbClr val="ffffff"/>
                </a:solidFill>
                <a:latin typeface="Arial"/>
              </a:rPr>
              <a:t>da je objekat građen u skladu sa revidovanim glavnim projektom odnosno izgrađen u skladu sa revidovanim projektom izvedenog stanja, zakonom i drugim propisima odnosno izjavu da je objekat podoban za upotrebu i da se može namjenski koristit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građenjem objekta u cjelini - dužan da potpiše izjavu da je objekat građen u skladu sa revidovanim glavnim projektom, ovim zakonom, posebnim propisima i pravilima struke, odnosno da je objekat podoban za upotreb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izvođenjem pojedinih vrsta radova na građenju objekta - dužan da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rukovodi stručnim nadzorom nad građenjem objekta u cjelini - dužan da potpiše konačni izvještaj o vršenju stručnog nadzora nad građenjem objekta po fazama građenja i konačni izvještaj o izvršenom stručnom nadzoru nad građenjem objekta,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vrši stručni nadzor nad građenjem pojedinih vrsta radova na objektu - dužan da potpiše izvještaj o stručnom nadzoru nad građenjem objekta po fazama građenja i konačni izvještaj o izvršenom stručnom nadzoru nad građenjem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a:t>
            </a:r>
            <a:endParaRPr b="0" lang="en-US" sz="2600" spc="-1" strike="noStrike">
              <a:solidFill>
                <a:srgbClr val="ffffff"/>
              </a:solidFill>
              <a:latin typeface="Arial"/>
            </a:endParaRPr>
          </a:p>
        </p:txBody>
      </p:sp>
      <p:sp>
        <p:nvSpPr>
          <p:cNvPr id="128" name=""/>
          <p:cNvSpPr txBox="1"/>
          <p:nvPr/>
        </p:nvSpPr>
        <p:spPr>
          <a:xfrm>
            <a:off x="550440" y="1700280"/>
            <a:ext cx="11377800" cy="46814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konom regulisani uslovi za obavljanje sljedećih djelatnosti (i sticanje odgovarajućih licenc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rada tehničke dokumentacije, građenje objekata odnosno izvođenja pojedinih radova na građenju objekta (</a:t>
            </a:r>
            <a:r>
              <a:rPr b="1" lang="sr-Latn-ME" sz="1500" spc="-1" strike="noStrike">
                <a:solidFill>
                  <a:srgbClr val="ffffff"/>
                </a:solidFill>
                <a:latin typeface="Arial"/>
              </a:rPr>
              <a:t>pod određenim uslovima ovo može da obavlja i strano privreno društvo</a:t>
            </a:r>
            <a:r>
              <a:rPr b="0" lang="sr-Latn-ME" sz="1500" spc="-1" strike="noStrike">
                <a:solidFill>
                  <a:srgbClr val="ffffff"/>
                </a:solidFill>
                <a:latin typeface="Arial"/>
              </a:rPr>
              <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tehničke dokumentacije, vršenje stručnog nadzora (u određenim slučajevima ovo može da obavlja komisija ili privredno društvo u vlasništvu države ili lokalne samouprav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slovi su propisani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pravno lice, odnosno preduzetnika koje se bavi gore pomenutim poslovim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koje realizuje konkretne poslove iz gore navedenih obla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koje obavlja djelatnost regulisane ovim zakonom, mora biti osigurano od profesionalne odgovornosti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štetu koja može da nastane investitorima ili trećim lic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mora da pokrije rizik odgovornosti za štetu prouzrokovanu licima, za štetu na objektima i za finansijski gubitak.</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malnu sumu osiguranja propisuje Vlada (100.000 za izradu tehničke dokumentacije i građenje, a 200.000 za reviziju tehničke dokumentacije i vršenje stručnog nadzor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od profesionalne odgovornosti ugovoreno u državi sjedišta stranog lica iz potpisnice EEP, priznaje se, ako to osiguranje pokriva štetu koja može biti prouzrokovana u Crnoj Gor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200" name=""/>
          <p:cNvSpPr txBox="1"/>
          <p:nvPr/>
        </p:nvSpPr>
        <p:spPr>
          <a:xfrm>
            <a:off x="695160" y="1699920"/>
            <a:ext cx="1073016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revizije tehničke dokumentacije, građenja , stručnog nadzora , tehničkog pregleda i izdavanja upotrebne dozvole kod složenih inženjerskih ob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revizije (privredno društvo, odnosno ovlašćeni zastupnik, ali i ovlašćeni inženjeri) - dužan je da potpiše svaki dio tehničke dokumentacije koji je revidovao.</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vođač radova i vršilac nadzora -- dužni su da potpišu izjave </a:t>
            </a:r>
            <a:r>
              <a:rPr b="0" lang="sr-Latn-ME" sz="1500" spc="-1" strike="noStrike">
                <a:solidFill>
                  <a:srgbClr val="ffffff"/>
                </a:solidFill>
                <a:latin typeface="Arial"/>
              </a:rPr>
              <a:t>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 dužan je da potpiše izvještaj o tehničkom pregledu složenog inženjerskog objek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koji je vršio tehnički pregled složenog inženjerskog objekta - dužan da potpiše </a:t>
            </a: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r>
              <a:rPr b="0" lang="sr-Latn-ME" sz="1500" spc="-1" strike="noStrike">
                <a:solidFill>
                  <a:srgbClr val="ffffff"/>
                </a:solidFill>
                <a:latin typeface="Arial"/>
              </a:rPr>
              <a: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DZOR NAD SPROVOĐENJEM ZAKONA</a:t>
            </a:r>
            <a:endParaRPr b="0" lang="en-US" sz="2800" spc="-1" strike="noStrike">
              <a:solidFill>
                <a:srgbClr val="ffffff"/>
              </a:solidFill>
              <a:latin typeface="Arial"/>
            </a:endParaRPr>
          </a:p>
        </p:txBody>
      </p:sp>
      <p:sp>
        <p:nvSpPr>
          <p:cNvPr id="202" name=""/>
          <p:cNvSpPr txBox="1"/>
          <p:nvPr/>
        </p:nvSpPr>
        <p:spPr>
          <a:xfrm>
            <a:off x="1219320" y="1981080"/>
            <a:ext cx="10362960" cy="4114800"/>
          </a:xfrm>
          <a:prstGeom prst="rect">
            <a:avLst/>
          </a:prstGeom>
          <a:noFill/>
          <a:ln w="0">
            <a:noFill/>
          </a:ln>
        </p:spPr>
        <p:txBody>
          <a:bodyPr anchor="t">
            <a:normAutofit fontScale="97000"/>
          </a:bodyPr>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zor nad sprovođenjem ovog zakona i drugih propisa donijetih na osnovu ovog zakona vrši Ministarstvo.</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love inspekcijskog nadzora u oblasti planiranja i izgradnje vrši Ministarstvo, u skladu sa ovim zakonom i zakonom kojim se uređuje inspekcijski nadzor.</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spekcijski nadzor  vrši se preko: </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rbanističko-građevinskog inspektor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e inspekcije, u skladu sa zakonom (komunalna inspekcija  za privremene i pomoćne objekte, sanitarna ekološk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vlašćenja urbanističko-građevinskog inspektora – </a:t>
            </a:r>
            <a:r>
              <a:rPr b="0" lang="sr-Latn-ME" sz="1500" spc="-1" strike="noStrike">
                <a:solidFill>
                  <a:srgbClr val="ffffff"/>
                </a:solidFill>
                <a:latin typeface="Arial"/>
              </a:rPr>
              <a:t>provjera da li učesnici postupaju u skladu sa zakonom  (investitor, vlasnik objekta, izvođač, revident i revizor, stručni nadzor, vršilac tehničkog pregled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pravne mjere i radnje urbanističko-građevinskog inspektora </a:t>
            </a:r>
            <a:r>
              <a:rPr b="0" lang="sr-Latn-ME" sz="1500" spc="-1" strike="noStrike">
                <a:solidFill>
                  <a:srgbClr val="ffffff"/>
                </a:solidFill>
                <a:latin typeface="Arial"/>
              </a:rPr>
              <a:t>(koje su propisane kao mjere koje može preduzeti pod određenim uslovim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be investitoru,  vlasniku i izvođaču da otklone nedostatk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građenja ili daljeg izvođenja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obavljanja djelatnosti  privrednih društava (projektanta, izvođača, revidenta itd.), ukoliko ne postupaju u skladu sa nekim članovi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i rušenje objekta, ili nekih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KAZNENE MJERE</a:t>
            </a:r>
            <a:endParaRPr b="0" lang="en-US" sz="2800" spc="-1" strike="noStrike">
              <a:solidFill>
                <a:srgbClr val="ffffff"/>
              </a:solidFill>
              <a:latin typeface="Arial"/>
            </a:endParaRPr>
          </a:p>
        </p:txBody>
      </p:sp>
      <p:sp>
        <p:nvSpPr>
          <p:cNvPr id="204"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ovčane kazne za prekršaje (ua zavisnosti od prekršaja)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avno lice  u iznosu od 5.000 eura do 40.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pravnom licu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organu državne uprave odnosno u organu lokalne samouprave u iznosu od 500 eura do 4.000 eura (za neke prekršaje), odnosno  u iznosu od 1.000 do 12.000 eura, za druge prekrša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uzetnika od 1.000 eura do 12.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revizori planskog dokumenta, odnosno tehničke dokumentacije)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 izrade tehničke dokumentacije i građenja</a:t>
            </a:r>
            <a:r>
              <a:rPr b="1" lang="en-US" sz="2600" spc="-1" strike="noStrike">
                <a:solidFill>
                  <a:srgbClr val="ffffff"/>
                </a:solidFill>
                <a:latin typeface="Arial"/>
              </a:rPr>
              <a:t> </a:t>
            </a:r>
            <a:r>
              <a:rPr b="1" lang="sr-Latn-ME" sz="2600" spc="-1" strike="noStrike">
                <a:solidFill>
                  <a:srgbClr val="ffffff"/>
                </a:solidFill>
                <a:latin typeface="Arial"/>
              </a:rPr>
              <a:t>(za privedno društvo)</a:t>
            </a:r>
            <a:endParaRPr b="0" lang="en-US" sz="2600" spc="-1" strike="noStrike">
              <a:solidFill>
                <a:srgbClr val="ffffff"/>
              </a:solidFill>
              <a:latin typeface="Arial"/>
            </a:endParaRPr>
          </a:p>
        </p:txBody>
      </p:sp>
      <p:sp>
        <p:nvSpPr>
          <p:cNvPr id="130"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izrađuje tehničku dokumentaciju (projektant)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projekta koji izrađuje i to za: arhitektonski, građevinski, elektrotehnički i mašinski projek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izradom cjelokupne tehničke dokumentacije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projek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gradi objekat (izvođač radov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radova koje izvodi na osnovu tih pro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građenjem objekta u cjelini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radova koje izvodi na osnovu tih projeka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nje pojedinih poslova projektant odnosno izvođač radova može da obezbijedi i na osnovu zaključenog ugovora sa drugim privrednim društvom koje ima zaposlenog ovlašćenog inženjera za određenu vrstu projekta odnosno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i stručnog nadzora</a:t>
            </a:r>
            <a:br>
              <a:rPr sz="2500"/>
            </a:br>
            <a:r>
              <a:rPr b="1" lang="sr-Latn-ME" sz="2500" spc="-1" strike="noStrike">
                <a:solidFill>
                  <a:srgbClr val="ffffff"/>
                </a:solidFill>
                <a:latin typeface="Arial"/>
              </a:rPr>
              <a:t>(za privedno društvo)</a:t>
            </a:r>
            <a:endParaRPr b="0" lang="en-US" sz="2500" spc="-1" strike="noStrike">
              <a:solidFill>
                <a:srgbClr val="ffffff"/>
              </a:solidFill>
              <a:latin typeface="Arial"/>
            </a:endParaRPr>
          </a:p>
        </p:txBody>
      </p:sp>
      <p:sp>
        <p:nvSpPr>
          <p:cNvPr id="132" name=""/>
          <p:cNvSpPr txBox="1"/>
          <p:nvPr/>
        </p:nvSpPr>
        <p:spPr>
          <a:xfrm>
            <a:off x="911160" y="1981080"/>
            <a:ext cx="1067112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300" spc="-1" strike="noStrike">
                <a:solidFill>
                  <a:srgbClr val="ffffff"/>
                </a:solidFill>
                <a:latin typeface="Arial"/>
              </a:rPr>
              <a:t>koje vrši reviziju tehničke dokumentacije (revident) </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ima </a:t>
            </a:r>
            <a:r>
              <a:rPr b="1" lang="sr-Latn-ME" sz="1300" spc="-1" strike="noStrike" u="sng">
                <a:solidFill>
                  <a:srgbClr val="ffffff"/>
                </a:solidFill>
                <a:uFillTx/>
                <a:latin typeface="Arial"/>
              </a:rPr>
              <a:t>najmanje po jednog zaposlenog </a:t>
            </a:r>
            <a:r>
              <a:rPr b="1" lang="vi-VN" sz="1300" spc="-1" strike="noStrike" u="sng">
                <a:solidFill>
                  <a:srgbClr val="ffffff"/>
                </a:solidFill>
                <a:uFillTx/>
                <a:latin typeface="Arial"/>
              </a:rPr>
              <a:t>revizora </a:t>
            </a:r>
            <a:r>
              <a:rPr b="0" lang="vi-VN" sz="1300" spc="-1" strike="noStrike">
                <a:solidFill>
                  <a:srgbClr val="ffffff"/>
                </a:solidFill>
                <a:latin typeface="Arial"/>
              </a:rPr>
              <a:t>i to za: arhitektonski, građevinski, elektrotehnički i mašinski projekat</a:t>
            </a:r>
            <a:r>
              <a:rPr b="0" lang="sr-Latn-ME" sz="1300" spc="-1" strike="noStrike">
                <a:solidFill>
                  <a:srgbClr val="ffffff"/>
                </a:solidFill>
                <a:latin typeface="Arial"/>
              </a:rPr>
              <a:t>, a izuzetno:</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do 300 m2, najmanje jednog zaposlenog revizora za arhitektonski ili građevins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od 300 do 1.000 m2, najmanje jednog zaposlenog revizora za arhitektonski i građevinski projekat; </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djevinske površine od 1.000 do 10.000 m2, najmanje jednog zaposlenog revizora za arhitektonski, građevinski i elektrotehnič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inženjerske objekte koji nijesu složeni inženjerski objekti, najmanje po jednog zaposlenog revizora za dva pro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revizora koji rukovodi revizijom cjelokupne tehničke dokumentacije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svaki posebni dio tehničke dokumentacije </a:t>
            </a:r>
            <a:r>
              <a:rPr b="0" lang="sr-Latn-ME" sz="1300" spc="-1" strike="noStrike">
                <a:solidFill>
                  <a:srgbClr val="ffffff"/>
                </a:solidFill>
                <a:latin typeface="Arial"/>
              </a:rPr>
              <a:t>(ministarstvu dostavlja obavještenje o imenovan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koje obavlja poslove stručnog nadzora nad građenjem objekta (stručni nadzor)</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a:t>
            </a:r>
            <a:r>
              <a:rPr b="1" lang="sr-Latn-ME" sz="1300" spc="-1" strike="noStrike" u="sng">
                <a:solidFill>
                  <a:srgbClr val="ffffff"/>
                </a:solidFill>
                <a:uFillTx/>
                <a:latin typeface="Arial"/>
              </a:rPr>
              <a:t>ima najmanje  po jednog zaposlenog </a:t>
            </a:r>
            <a:r>
              <a:rPr b="0" lang="vi-VN" sz="1300" spc="-1" strike="noStrike">
                <a:solidFill>
                  <a:srgbClr val="ffffff"/>
                </a:solidFill>
                <a:latin typeface="Arial"/>
              </a:rPr>
              <a:t>revizora i to za: arhitektonski, građevinski, elektrotehnički i mašinski projek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vi-VN" sz="1300" spc="-1" strike="noStrike">
                <a:solidFill>
                  <a:srgbClr val="ffffff"/>
                </a:solidFill>
                <a:latin typeface="Arial"/>
              </a:rPr>
              <a:t>revizora koji rukovodi stručnim nadzorom nad građenjem cjelokupnog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pojedine radove na građenju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OVLAŠĆENOG INŽENJERA</a:t>
            </a:r>
            <a:endParaRPr b="0" lang="en-US" sz="2800" spc="-1" strike="noStrike">
              <a:solidFill>
                <a:srgbClr val="ffffff"/>
              </a:solidFill>
              <a:latin typeface="Arial"/>
            </a:endParaRPr>
          </a:p>
        </p:txBody>
      </p:sp>
      <p:sp>
        <p:nvSpPr>
          <p:cNvPr id="134" name=""/>
          <p:cNvSpPr txBox="1"/>
          <p:nvPr/>
        </p:nvSpPr>
        <p:spPr>
          <a:xfrm>
            <a:off x="1055160" y="1731600"/>
            <a:ext cx="1052676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i inženjer – uslov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izrade tehničke dokumentacije odnosno građenj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i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tri godine radnog iskustva na stručnim poslovima izrade tehničke dokumentacije i/ili građe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ovlašćenog inženjer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izrađuje dio tehničke dokumentacije odgovoran je za dio koji je izradi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izradom tehničke dokumentacije u cjelini odgovoran je za usaglašenost svih faza tehničke dokumentacije, (istovremeno može biti i ovlašćeni inženjer dijela tehničke dokument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pojedinih vrsta radova na objektu odgovoran je za izvođenje tih rad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objekta u cjelini odgovoran je za međusobnu usklađenost i koordinaciju radova koji se izvode na objektu, (istovremeno može biti i ovlašćeni inženjer za pojedine radove na građenju objek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REVIZORA</a:t>
            </a:r>
            <a:endParaRPr b="0" lang="en-US" sz="2800" spc="-1" strike="noStrike">
              <a:solidFill>
                <a:srgbClr val="ffffff"/>
              </a:solidFill>
              <a:latin typeface="Arial"/>
            </a:endParaRPr>
          </a:p>
        </p:txBody>
      </p:sp>
      <p:sp>
        <p:nvSpPr>
          <p:cNvPr id="136" name=""/>
          <p:cNvSpPr txBox="1"/>
          <p:nvPr/>
        </p:nvSpPr>
        <p:spPr>
          <a:xfrm>
            <a:off x="1055160" y="1557000"/>
            <a:ext cx="10363320" cy="4343400"/>
          </a:xfrm>
          <a:prstGeom prst="rect">
            <a:avLst/>
          </a:prstGeom>
          <a:noFill/>
          <a:ln w="0">
            <a:noFill/>
          </a:ln>
        </p:spPr>
        <p:txBody>
          <a:bodyPr anchor="t">
            <a:normAutofit fontScale="93000"/>
          </a:bodyPr>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 uslovi:</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revizije tehničke dokumentacije odnosno stučnog nadzora nad građenjem,</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crnogorski državljanin </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7 godina radnog iskustva na stručnim poslovima izrade tehničke dokumentacije i/ili građenja objekata u svojstvu ovlašćenog inženjera, odnosn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reviz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dijela tehničke dokumentacije, odgovoran je za reviziju dijela tehničke dokumentacije koji je revidova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tehničke dokumentacije u cjelini odgovoran je za </a:t>
            </a:r>
            <a:r>
              <a:rPr b="0" lang="vi-VN" sz="1300" spc="-1" strike="noStrike">
                <a:solidFill>
                  <a:srgbClr val="ffffff"/>
                </a:solidFill>
                <a:latin typeface="Arial"/>
              </a:rPr>
              <a:t>provjeru međusobne usklađenosti svih djelova tehničke dokumentacije</a:t>
            </a:r>
            <a:r>
              <a:rPr b="0" lang="sr-Latn-ME" sz="1300" spc="-1" strike="noStrike">
                <a:solidFill>
                  <a:srgbClr val="ffffff"/>
                </a:solidFill>
                <a:latin typeface="Arial"/>
              </a:rPr>
              <a:t>, (istovremeno može biti i revizor dijela tehničke dokumentacij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stručnim nadzorom nad izvođenjem pojedinih vrsta radova na objektu odgovoran je za izvođenje tih radov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a:t>
            </a:r>
            <a:r>
              <a:rPr b="0" lang="pl-PL" sz="1300" spc="-1" strike="noStrike">
                <a:solidFill>
                  <a:srgbClr val="ffffff"/>
                </a:solidFill>
                <a:latin typeface="Arial"/>
              </a:rPr>
              <a:t>stručnim nadzorom nad građenjem objekta u cjelini, o</a:t>
            </a:r>
            <a:r>
              <a:rPr b="0" lang="sr-Latn-ME" sz="1300" spc="-1" strike="noStrike">
                <a:solidFill>
                  <a:srgbClr val="ffffff"/>
                </a:solidFill>
                <a:latin typeface="Arial"/>
              </a:rPr>
              <a:t>dgovoran je za provjeru međusobne usklađenost svih radova na građenju objekta, (istovremeno može biti i revizor nad izvođenjem pojedinih radova na građenju objekt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KLAĐIVANJE LICENCI</a:t>
            </a:r>
            <a:br>
              <a:rPr sz="2800"/>
            </a:br>
            <a:r>
              <a:rPr b="1" lang="sr-Latn-ME" sz="2800" spc="-1" strike="noStrike">
                <a:solidFill>
                  <a:srgbClr val="ffffff"/>
                </a:solidFill>
                <a:latin typeface="Arial"/>
              </a:rPr>
              <a:t>za privredna društva i fizička lica koja imaju licence po starom zakonu</a:t>
            </a:r>
            <a:endParaRPr b="0" lang="en-US" sz="2800" spc="-1" strike="noStrike">
              <a:solidFill>
                <a:srgbClr val="ffffff"/>
              </a:solidFill>
              <a:latin typeface="Arial"/>
            </a:endParaRPr>
          </a:p>
        </p:txBody>
      </p:sp>
      <p:sp>
        <p:nvSpPr>
          <p:cNvPr id="138" name=""/>
          <p:cNvSpPr txBox="1"/>
          <p:nvPr/>
        </p:nvSpPr>
        <p:spPr>
          <a:xfrm>
            <a:off x="550440" y="1752480"/>
            <a:ext cx="1103148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stare licence važe u roku od šest mjeseci od dana stupanja na snagu ovog zakona </a:t>
            </a:r>
            <a:r>
              <a:rPr b="0" lang="sr-Latn-ME" sz="1600" spc="-1" strike="noStrike" u="sng">
                <a:solidFill>
                  <a:srgbClr val="ff0000"/>
                </a:solidFill>
                <a:uFillTx/>
                <a:latin typeface="Arial"/>
              </a:rPr>
              <a:t>(rok teće od 14. oktobra 2017., dakle do 14. aprila 2018. godin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 tom roku privredna društva i fizička lica treba da pribave licencu u skladu sa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ako se rok ne ispoštuje, stare licence prestaju da važ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Izuzetno, privrednom društvu odnosno fizičkom licu koje je do 27.09.2017. godine zaključilo ugovor o vršenju poslova iz djelatnosti uređenih ovim zakonom, licence, ovlašćenja odnosno ovjerena odobrenja za potrebe tog ugovora važe do isteka zaključenog ugov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važava se iskustvo koje su fizička lica stekla kao vodeći i odgovorni projektant, glavni i odgovorni inženjer (sa starim licen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Do pristupanja Crne Gore Evropskoj uniji, strana lica obavljaće djelatnost u skladu sa uslovima utvrđenim ovim zakonom za domaća lic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00"/>
                </a:solidFill>
                <a:latin typeface="Arial"/>
              </a:rPr>
              <a:t>NIJE AKTUELNO, ROK JE ISTEKAO, OSIM ZA POSLEDNJU TAČK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30:04Z</dcterms:modified>
  <cp:revision>656</cp:revision>
  <dc:subject/>
  <dc:title>ZAKON O IZGRADNJI OBJEKATA</dc:title>
</cp:coreProperties>
</file>